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06A-C9CB-49FE-A8F6-6977A6FC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C15-FDFB-42E1-AF1E-8FE6A017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20A-8D3E-4AC6-A412-F0070DF4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969F-9062-4484-BCCC-EA7D4119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0680-912D-4BB3-852A-417307B0F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76AD-3C5C-4991-995C-952CD758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8F01-632D-4517-9F7A-C9B1005D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B678-139A-4EF4-9086-309632BF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5228-E745-4918-B931-7E18A875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88DD-8E07-42B1-B289-8184B7A2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D1E7-83CF-4C9A-A66D-6A89E04A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314-430E-4534-9D7E-7BEDE8BA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BFC7-BF93-4E59-9FF1-ED608FCE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F005-D6EB-450A-A0CE-913CF4D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FDDA-B6F4-46B0-B93A-A2CEF55F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0559-7201-44EC-8200-24F794C5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D58F-21A6-4731-9764-D9A0A96B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19A-A2C9-4FB0-A56E-CBC65DAF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395-7B6F-4E2E-8DDB-116BCA00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4A2-34B6-40D6-AF13-BF740D28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985-6857-42DC-81DA-34477702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F46-B9EE-4703-9E18-B04C7524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8C5-2963-4590-8462-A2431060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E7F-42E2-4FA7-8B49-739C4008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E5F9-C675-4456-A24E-E4E66EF1D93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6E9C-FF8F-4F69-885C-C0E43E6706B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1785600"/>
            <a:ext cx="835812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ОТРАЖЕНИЕ ВОПРОСОВ НАДЛЕЖАЩЕЙ ДИСТРИБЬЮТОРСКОЙ ПРАКТИКИ В ПРОГРАММАХ ОБУЧЕНИЯ СТУДЕНТОВ И СЛУШАТЕЛЕЙ ФПК и ПК УО «ВГМУ»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8760" y="4714920"/>
            <a:ext cx="85010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Декан фармацевтического факульте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УО «ВГМУ» В.В. Куг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Заведующий кафедрой ОЭФ с курсом ФПК и ПК УО «ВГМУ» Г.А. Хутк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https://upload.wikimedia.org/wikipedia/ru/1/12/Vgmu-logo.png"/>
          <p:cNvPicPr/>
          <p:nvPr/>
        </p:nvPicPr>
        <p:blipFill>
          <a:blip r:embed="rId1"/>
          <a:stretch/>
        </p:blipFill>
        <p:spPr>
          <a:xfrm>
            <a:off x="285840" y="214200"/>
            <a:ext cx="14176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ttp://www.vsmu.by/images/phocagallery/vsmu/vsmu002.jpg"/>
          <p:cNvPicPr/>
          <p:nvPr/>
        </p:nvPicPr>
        <p:blipFill>
          <a:blip r:embed="rId2"/>
          <a:stretch/>
        </p:blipFill>
        <p:spPr>
          <a:xfrm>
            <a:off x="6643800" y="142920"/>
            <a:ext cx="2143080" cy="1744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http://www.abiturient.by/files/univer-photos/IMG_0860_resize.jpg"/>
          <p:cNvPicPr/>
          <p:nvPr/>
        </p:nvPicPr>
        <p:blipFill>
          <a:blip r:embed="rId3"/>
          <a:stretch/>
        </p:blipFill>
        <p:spPr>
          <a:xfrm>
            <a:off x="1857240" y="142920"/>
            <a:ext cx="217656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http://www.abiturient.by/files/univer-photos/img_6005.jpg"/>
          <p:cNvPicPr/>
          <p:nvPr/>
        </p:nvPicPr>
        <p:blipFill>
          <a:blip r:embed="rId4"/>
          <a:stretch/>
        </p:blipFill>
        <p:spPr>
          <a:xfrm>
            <a:off x="4143240" y="142920"/>
            <a:ext cx="235296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Тема: Фармацевтическая логис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нятие логистики. История возникновения и этапы развития практической логистики. Принципы логистики. Макро- и микрологистика. Логистические операции и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ущность и задачи закупочной, транспортной, распределительной логистики. Использование принципов логистики в работе аптечного скла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онятие и система логистического сервиса. Уровень логистического сервиса. Определение оптимального объема уровня логистического серви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заимосвязь логистики и маркетин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logistic_3.jpg"/>
          <p:cNvPicPr/>
          <p:nvPr/>
        </p:nvPicPr>
        <p:blipFill>
          <a:blip r:embed="rId1"/>
          <a:stretch/>
        </p:blipFill>
        <p:spPr>
          <a:xfrm>
            <a:off x="6858000" y="357120"/>
            <a:ext cx="1762200" cy="1084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ÐÐ°ÑÑÐ¸Ð½ÐºÐ¸ Ð¿Ð¾ Ð·Ð°Ð¿ÑÐ¾ÑÑ ÐºÐ°ÑÑÐ¸Ð½ÐºÐ¸ Ð»Ð¾Ð³Ð¸ÑÑÐ¸ÐºÐ¸"/>
          <p:cNvPicPr/>
          <p:nvPr/>
        </p:nvPicPr>
        <p:blipFill>
          <a:blip r:embed="rId2"/>
          <a:stretch/>
        </p:blipFill>
        <p:spPr>
          <a:xfrm>
            <a:off x="5357880" y="5429160"/>
            <a:ext cx="3600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1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ема: Стандартизация фармацевт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Понятие стандартизации в здравоохранении и фармации. Стандарты надлежащих практ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тандартные операционные процедуры (СОП) и рабочие инструкции (РИ) как структурные единицы стандартизации. Порядок разработки, оформления, утверждения и применения СОП и РИ. Порядок внесения изменений в СОП и Р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Перечень СОП и РИ, обязательных для аптечных скла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1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 связи с принятием надлежащей дистрибьюторской практики ЕАЭ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 учебную программу по ОЭФ были внесены соответствующие изменения и дополнения, касающиеся новых требований: руководство по качеству, введение института ответственного лица, управление рисками для качества, квалификация оборудования и вспомогательных систем, валидация оборудования и технологических систем на аптечном складе, оценка поставщиков и заказчиков, документ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Необходимый информационный ресурс размещен для студентов в системе дистанционного обу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2016 году была разработана новая типовая учебная программа по учебной дисциплин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«Медицинское и фармацевтическое товароведени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для специальности 1-79 01 08 «Фа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ема: Упаковка и маркировка медицинских изделий и товаров аптечного ассортимент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о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рганизация их транспортировки, хранения и реал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Упаковка товаров. Виды, классификация, требования к упаков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аркировка медицинских изделий и товаров аптечного ассортимента, маркировка специальным знаком обращения медицинского изделия на рынке Евразийского экономического союз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Дополнительные требования к маркировке отдельных видов пищевых продуктов (биологически активных добавок к пище, продуктов детского, диетического и специализированного питани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31250" t="48612" r="39844" b="33333"/>
          <a:stretch/>
        </p:blipFill>
        <p:spPr>
          <a:xfrm>
            <a:off x="6429240" y="5715000"/>
            <a:ext cx="228600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Информационные знаки (манипуляционные, предупредительные, экологические), их функции. Торговая марка и товарный зна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Требования к транспортировке медицинских изделий и товаров аптечного ассортимен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клады медицинских изделий, требования к ним. Правила приемки медицинских изделий и товаров аптечного ассортимента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азначение и виды материальных запас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rcRect l="70313" t="41669" r="16795" b="50002"/>
          <a:stretch/>
        </p:blipFill>
        <p:spPr>
          <a:xfrm>
            <a:off x="4857840" y="5429160"/>
            <a:ext cx="2357280" cy="857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rcRect l="5860" t="42362" r="76173" b="50002"/>
          <a:stretch/>
        </p:blipFill>
        <p:spPr>
          <a:xfrm>
            <a:off x="928800" y="5715000"/>
            <a:ext cx="32860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Новым образовательным стандартом высшего образования по специальности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1-79 01 08 «Фармация» и типовым учебным планом для студентов фармацевтического факультета в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I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семестре предусмотрено изучение новой учебной дисциплины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Управление и экономика фармацевтического предприят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(в объеме 69 аудиторных час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Типовой учебной программой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предусмотре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формирование отдельных профессиональных компетенц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К: Осуществлять все виды работ, связанные с организацией и функционированием системы обеспечения качества лекарственных средств на фармацевтическом предприяти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К: Осуществлять хранение лекарственных средств и других товаров аптечного ассортимента с использованием принципов складской логист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Тема: Надлежащая инженерная практика на фармацевтическом предприя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ТКП 445-2012 Порядок составления и выдачи исходных данных на проектирование новых, расширение, реконструкцию и техническое перевооружение фармацевтических произво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ТКП 446-2012 Правила проектирования фармацевтических произво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0" y="14292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опросам стандартизации фармацевтической деятельности уделяется достаточно много внимания при изучении студентами фармацевтического факультета учебных дисциплин, при прохождении производственных практик, проведении курсов повышения квалификации фармацевтических специалис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http://medvestnik.by/images/storage/news/000017_605237_big.jpg"/>
          <p:cNvPicPr/>
          <p:nvPr/>
        </p:nvPicPr>
        <p:blipFill>
          <a:blip r:embed="rId1"/>
          <a:stretch/>
        </p:blipFill>
        <p:spPr>
          <a:xfrm>
            <a:off x="4357800" y="4286160"/>
            <a:ext cx="4100400" cy="2452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privathb.ru/wp-content/uploads/2015/02/021515_1709_1.png"/>
          <p:cNvPicPr/>
          <p:nvPr/>
        </p:nvPicPr>
        <p:blipFill>
          <a:blip r:embed="rId2"/>
          <a:srcRect l="0" t="3975" r="0" b="0"/>
          <a:stretch/>
        </p:blipFill>
        <p:spPr>
          <a:xfrm>
            <a:off x="571680" y="4643280"/>
            <a:ext cx="2842920" cy="19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ТРАЖЕНИЕ ВОПРОСОВ НАДЛЕЖАЩЕЙ ДИСТРИБЬЮТОРСКОЙ ПРАКТИКИ В ПРОГРАММАХ ОБУЧЕНИЯ СЛУШАТЕЛЕЙ ФПК и ПК УО «ВГМУ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http://privathb.ru/wp-content/uploads/2015/02/021515_1709_1.png"/>
          <p:cNvPicPr/>
          <p:nvPr/>
        </p:nvPicPr>
        <p:blipFill>
          <a:blip r:embed="rId1"/>
          <a:srcRect l="0" t="3975" r="0" b="0"/>
          <a:stretch/>
        </p:blipFill>
        <p:spPr>
          <a:xfrm>
            <a:off x="1000080" y="4429080"/>
            <a:ext cx="2843280" cy="1976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medvestnik.by/images/storage/news/000017_605237_big.jpg"/>
          <p:cNvPicPr/>
          <p:nvPr/>
        </p:nvPicPr>
        <p:blipFill>
          <a:blip r:embed="rId2"/>
          <a:stretch/>
        </p:blipFill>
        <p:spPr>
          <a:xfrm>
            <a:off x="3857760" y="3786120"/>
            <a:ext cx="4457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УРС ПК: СОВРЕМЕННЫЕ АСПЕКТЫ РАБОТЫ ПРОВИЗОРА-РЕЦЕПТА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(для провизоров-специалистов апте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ема: Организация фармацевтической деятельности в рамках Евразийского экономического союз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(лекция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Евразийский экономический союз (ЕАЭС), его структура и задачи. Соглашение о единых принципах и правилах обращения лекарственных средств в рамках ЕАЭС. Гармонизация нормативных правовых актов и стандартов в сфере обращения лекарственных средств на основе международных норм, рекомендаций Всемирной организации здравоохранения и опыта стран Европейского союз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ема: Правовые основы деятельности аптечных складов (лекц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равила надлежащей практики оптовой реализации (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DP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ood Distribution Practice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). Основные принципы надлежащей оптовой реализации. Качество лекарственных средств на всех этапах товародвижения, регистрация лекарственных средств, выполнение условий хранения. Требования к персоналу, занятому оптовой реализацией лекарственных средств. Документальное оформление реализации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1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еждународная гармонизация требований к режимам хранения лекарственных средств, лекарственных субстанций, вспомогательных веществ. Требования к помещениям и оборудованию для хранения това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Требования к аптечным складам Республики Беларусь в соответствии с Надлежащей практикой оптовой реализации: состав и площади помещений, штаты, система обеспечения качества лекарственных сред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ема: Стандартизация деятельности аптечных скла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(лекц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Характеристика аптечных складов Республики Беларусь. Организационная структура. Организация работы. Порядок приемки лекарственных средств и других товаров в аптечный склад. Стандартизация различных видов деятельности. Порядок разработки стандартных операционных процеду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ема: Фармацевтическая логистика. Товародвижение на фармацевтическом рын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(лекц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Задачи логистики. Применение логистических подходов в сфере обращения лекарственных средств. Сквозной материальный поток. Финансовый, информационный, транспортный, сервисный потоки. Распределительная логистика (логистика товародвижения). Рационализация хозяйственной деятельности фармацевтических предприятий оптовой торговли путем оптимизации сквозного материального пот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УРС ПК: СОВРЕМЕННЫЕ АСПЕКТЫ РАБОТЫ ПРОВИЗОРА-РЕЦЕПТА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(для провизоров-специалистов апте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ема: Организация фармацевтической деятельности в рамках Евразийского экономического союз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(лекция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ема: Стандартизация фармацевт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Семинарское занят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тандартизация в здравоохранении: основные направления. Комплекс надлежащих практик в системе стандартизации фармацевтической продукции и услу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1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УРС ПК: НОРМАТИВНО-ПРАВОВОЕ РЕГУЛИРОВАНИЕ 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ПТЕЧНЫХ ОРГАНИЗ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(для лиц с высшим фармацевтическим образованием из числа руководителей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пециалистов органов государственного управления здравоохранением, предприятий, руководителей аптечных организаций и их структурных подразделени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УРС ПК: КОНТРОЛЬ ЗА ДЕЯТЕЛЬНОСТЬЮ АПТЕ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(для лиц с высшим фармацевтическим образованием из числа руководителей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пециалистов органов государственного управления здравоохранением, предприятий, руководителей аптечных организаций и их структурных подразделени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Тема: Организация фармацевтической деятельности в рамках Евразийского экономического союз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(лекц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Тема: Стандартизация фармацевтическ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(лекция)</a:t>
            </a:r>
            <a:r>
              <a:rPr b="1" i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Особое внимание изучению студентами ряда надлежащих практик уделяется на кафедре ОЭФ с курсом ФПК и ПК при освоении учебных дисциплин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«Организация и экономика фармац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«Медицинское и фармацевтическое товароведени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«Управление и экономика фармацевтического предприят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http://belcity.by/wp-content/uploads/2015/03/lekarstva_1920x1080.jpg"/>
          <p:cNvPicPr/>
          <p:nvPr/>
        </p:nvPicPr>
        <p:blipFill>
          <a:blip r:embed="rId1"/>
          <a:stretch/>
        </p:blipFill>
        <p:spPr>
          <a:xfrm>
            <a:off x="4218120" y="4492800"/>
            <a:ext cx="4071960" cy="2298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https://www.laumas.com/images/soluzioni/chimico_big.jpg"/>
          <p:cNvPicPr/>
          <p:nvPr/>
        </p:nvPicPr>
        <p:blipFill>
          <a:blip r:embed="rId2"/>
          <a:stretch/>
        </p:blipFill>
        <p:spPr>
          <a:xfrm>
            <a:off x="817560" y="4425840"/>
            <a:ext cx="3900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Отражение вопросов Надлежащей дистрибьюторской практики для студентов фармацевтических факультетов и слушателей ФПК и ПК будет способствовать подготовке квалифицированных кадров и содействовать реализации основных направлений развития фармацевтического сектора Республики Белару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1420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ПАСИБ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ЗА ВНИМАНИ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IMGP0031"/>
          <p:cNvPicPr/>
          <p:nvPr/>
        </p:nvPicPr>
        <p:blipFill>
          <a:blip r:embed="rId1"/>
          <a:stretch/>
        </p:blipFill>
        <p:spPr>
          <a:xfrm>
            <a:off x="2419200" y="2639880"/>
            <a:ext cx="43722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Учебная дисципл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«Организация и экономика фарма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Еще в 2010 году при разработке новой типовой учебной программы по дисциплине «Организация и экономика фармации» для высших учебных заведений по специаль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1-79 01 08 «Фармация» были выделены ряд тем лекций и лабораторных занятий, касающихся соблюдения надлежащих условий хранения, транспортировки и распространения, необходимых для обеспечения качества, безопасности и эффективности лекарственных средств по всей цепи постав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Тема: Организация фармации за рубеж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Требования к аптечным складам. Надлежащая дистрибьюторская практика (правила GDP) Евросоюз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Тема: Организация закупок лекарственных средств, изделий медицинского назначения, медицинской техники и других товаров аптечного ассортим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Характеристика системы медицинского и фармацевтического снабжения лекарственными средствами в Республике Беларусь. Источники снабжения лекарственными средствами, их характеристика. Оптовые посредники, функции, классифик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Тема: Организация раб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аптечного скл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7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ри разработке новой типовой программы по ОЭФ в 2015 предусмотрено формирование отдельной профессиональной компетен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К - Осуществлять все виды работ, связанные с организацией и функционированием системы обеспечения качества лекарственных средств на аптечном скла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ри этом было увеличено количество часов, отводимых на изучение вопросов, касающихся Надлежащей дистрибьюторской практи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Тема: Организация работы аптечного склада по приемке и хранению лекарственных средств, медицинских изделий и товаров аптечного ассортим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птовая реализация лекарственных средств, правовые основы ее регулир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Аптечный склад: задачи, функции, группы. Порядок организации работы аптечного склада в соответствии с требованиями Надлежащей дистрибьюторской практ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рганизационная структура, оснащение, оборудование аптечного склада. Порядок работы приемного отдела аптечного склада. Организация приемки товаров в аптечном складе и осуществление приемочного контро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рганизация хранения товаров в отделах аптечного склада. Особенности хранения наркотических средств, психотропных веществ и их прекурсоров, лекарственных средств списка «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Возврат лекарственных средств на аптечный скл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амоинспекция на аптечном скла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Создание системы обеспечения качества на аптечном скла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Тема: Организация работы аптечного склада по комплектации заказов и транспортировке лекарственных средств, медицинских изделий и товаров аптечного ассортимен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Комплектация заказов по заявкам аптек и организаций здравоохра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рганизация работы экспедиционного отдела аптечного склада. Порядок доставки лекарственных средств и других товаров в аптеки и организации здравоохран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Требования к транспортировке лекарственных средств, медицинских изделий и товаров аптечного ассортимен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рганизация холодовой цеп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25:27Z</dcterms:created>
  <dc:creator>Admin</dc:creator>
  <dc:description/>
  <dc:language>en-US</dc:language>
  <cp:lastModifiedBy>Пользователь</cp:lastModifiedBy>
  <cp:lastPrinted>2018-03-27T14:28:24Z</cp:lastPrinted>
  <dcterms:modified xsi:type="dcterms:W3CDTF">2018-03-27T15:25:03Z</dcterms:modified>
  <cp:revision>475</cp:revision>
  <dc:subject/>
  <dc:title>Кадровый менеджмент</dc:title>
</cp:coreProperties>
</file>