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DC41-270B-44C9-BC02-599F03A55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17E2-CA7A-406B-B6F4-94667E84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EE38-B52E-4D8B-A15C-9F187A179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40E5-B88D-4B41-B6DC-3037A3638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B2AC-F17B-4141-B995-B0B188053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ECCD-8298-4845-AF30-C6DB4713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1608-71AD-4709-80E4-23AC8272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015B-682C-4E42-A998-9C1F4572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8AC4-E2F5-476E-9D2E-3CEF9647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2A94-FB3E-4366-A951-5EA9D421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B303-EE81-42FA-8909-666DAE8A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16DF-0874-4DE0-BD58-ECDF7FB8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3A93-319F-4EE0-A18B-71B92D4B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0FE7-9A92-4471-B6D6-E1F0B48C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909B-C5F6-494C-BBBD-4E12936B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C776-68DB-46DD-A736-4BE270B20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F135-A4E8-41E9-AECA-92E270D5C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3E9D-8054-4471-B15C-A550A3CE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9192-0849-4749-A581-F259712D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47C8-E22E-4CB0-BD30-6399DF73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FD0B-7049-4089-979C-C8D02412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F8D7-9929-417D-80E9-47B7B674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D54A-4943-4B29-BC17-53C44F62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3487-02D5-46AB-B712-2999DA95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8C00-1CFB-4A5A-A8C9-B33AFEDD97E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D4FB-F17F-4CAB-BC1C-B5656108677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consultantplus://offline/ref=B31062F0A49448293644E03BF5CAB0B962526C981ED2BC470F83D67E6E8AAB63A0EDEFC33A7FF922C443EA40oFMAH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consultantplus://offline/ref=B31062F0A49448293644E03BF5CAB0B962526C981ED2BC470F83D67E6E8AAB63A0EDEFC33A7FF922C443EA40oFMAH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65080" y="871560"/>
            <a:ext cx="787104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Система контроля качества лекарственных средств в сфере обращения на территории РБ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356000" y="2707920"/>
            <a:ext cx="401328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66"/>
                </a:solidFill>
                <a:latin typeface="Arial"/>
              </a:rPr>
              <a:t>Заместитель заведующего  Республиканской контрольно-аналитической лабораторией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66"/>
                </a:solidFill>
                <a:latin typeface="Arial"/>
              </a:rPr>
              <a:t>УП «Центр экспертиз и испытаний здравоохранении»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И.П.Ковтоню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635280" y="3429000"/>
            <a:ext cx="4249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Контроль качества зарегистрированных ЛС до реализации на территории РБ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2. по отдельным показателям и разделам "Упаковка", "Маркировка"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 отношении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.1. лекарственных средств для инъекций и инфузий, жидких офтальмологических лекарственных средств, лекарственных средств, предназначенных в соответствии с инструкцией по медицинскому применению и (или) листком-вкладышем (за исключением содержания общей информации о возможности применения лекарственного средства в детской практике без указания конкретной дозы и кратности приема в зависимости от возраста и веса ребенка) для внутреннего применения детям до двух лет включительно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.2 расфасованного лекарственного растительного сырья независимо от лекарственной формы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.3. иммунобиологических лекарственных средств (вакцины, анатоксины, иммуноглобулины, интерфероны, сыворотки лечебно-профилактические, лактоглобулины, бактериофаги, цитокины), биологических лекарственных средств, полученных путем переработки неклеточной части крови, биологических и биотехнологических лекарственных средст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Контроль качества зарегистрированных ЛС до реализации на территории РБ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3. по показателю "Описание" и разделам "Упаковка", "Маркировка"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 отношении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3.1. лекарственных средств, используемых для внутреннего применения у взрослых и лекарственных форм для наружного применения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3.2. иммунобиологических лекарственных средств, при наличии копии документа, подтверждающего качество лекарственного средства, выданного уполномоченным органом страны-производителя согласно Системе сертификации качества лекарственных средств для международной торговли, принятой Всемирной организацией здравоохранения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3.3. лекарственных средств </a:t>
            </a:r>
            <a:r>
              <a:rPr b="0" lang="ru-RU" sz="1600" spc="-1" strike="noStrike" u="sng">
                <a:solidFill>
                  <a:srgbClr val="003366"/>
                </a:solidFill>
                <a:uFillTx/>
                <a:latin typeface="Arial"/>
              </a:rPr>
              <a:t>отечественного и зарубежного производства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, произведенных в соответствии с требованиями Надлежащей производственной практики и </a:t>
            </a:r>
            <a:r>
              <a:rPr b="0" lang="ru-RU" sz="1600" spc="-1" strike="noStrike" u="sng">
                <a:solidFill>
                  <a:srgbClr val="003366"/>
                </a:solidFill>
                <a:uFillTx/>
                <a:latin typeface="Arial"/>
              </a:rPr>
              <a:t>не имеющих в течение трех последних лет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случаев выявления несоответствия их качеств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Контроль качества зарегистрированных ЛС, находящихся в обращении на территории РБ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нтроль качества находящихся в обращении лекарственных средств проводится на основании графика отбора, утверждаемого Министерством здравоохранения Республики Беларусь ежеквартально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нтроль качества лекарственных средств на соответствие требованиям фармакопейных статей  или нормативных документов производителей лекарственных средств осуществляется с учетом технической оснащенности и области аккредитац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2"/>
          <p:cNvSpPr/>
          <p:nvPr/>
        </p:nvSpPr>
        <p:spPr>
          <a:xfrm>
            <a:off x="1042920" y="765000"/>
            <a:ext cx="663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Основные критерии включения в график отбора образцов лекарственных средст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Прямоугольник 3"/>
          <p:cNvSpPr/>
          <p:nvPr/>
        </p:nvSpPr>
        <p:spPr>
          <a:xfrm>
            <a:off x="900000" y="2349360"/>
            <a:ext cx="748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личие лекарственных средств на рынке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нтроль качества лекарственных средств до поступления в реализацию осуществлялся не по всем показателям качеств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азличные лекарственные формы лекарственного средства: таблетки, капсулы, жидкости, сиропы, растворы для инъекций, включая различные дозировки и срок годност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 возможности, необходимо включать лекарственные средства, которые производятся в больших количества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Обоснования для включения лекарственного средства в график отбора образцов с учетом оценки уровня риска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ата государственной регистрации (первичной) в Республике Беларусь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трана происхождения производителя (Республика Беларусь, страна-член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IC</a:t>
            </a:r>
            <a:r>
              <a:rPr b="0" lang="ru-RU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/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</a:t>
            </a:r>
            <a:r>
              <a:rPr b="0" lang="ru-RU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; страны не входящие в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IC</a:t>
            </a:r>
            <a:r>
              <a:rPr b="0" lang="ru-RU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/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</a:t>
            </a:r>
            <a:r>
              <a:rPr b="0" lang="ru-RU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ступление информации от регуляторных органов, связанной с дефектами качества лекарственного средства (показатели спецификации, стабильность, нарушения условий хранения и транспортировки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тнесение лекарственного средства к основной группе в анатомо-терапевтическо-химической классификационной системе по действующему (активному) веществу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бъемы реализации (потребления) лекарственного средства за предыдущий год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личие информации о внесении изменений в регистрационное досье лекарственного средств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Места отбора образцов могут быть (но не ограничиваться) следующим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клад производителя или дистрибьютора лекарственных средств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рхив производителя лекарственных средств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анспортные средств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птеки всех форм собственности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рганизации всех форм собственности, осуществляющие медицинскую деятельность в соответствии с законодательством Республики Беларус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Отбор образцов осуществляется в отношении: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сходного сырья (фармацевтические    субстанции, вспомогательные вещества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ерасфасованной продукции ( «in bulk»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отовой продук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ловина отобранных образцов упаковывается отдельно, опечатывается (пломбируется) и передается юридическому лицу для хранения в соответствии с установленными условиями как контрольный образец до момента получения результатов лабораторного контроля качества в условиях, указанных в соответствующих аналитических нормативных документах и  обеспечивают качество продукции и целостность упаковк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Результаты контроля качества лекарственных средств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сле завершения испытания испытательная лаборатория оформляет Протокол испытаний лекарственного средства (далее – протокол испытаний) в 3-х экземплярах. Один экземпляр протокола испытаний остается в испытательной лаборатории, проводившей испытания, второй направляется юридическому лицу, осуществляющему промышленное производство и (или) реализацию и (или) хранение лекарственных средств, третий направляется в Фарминспекторат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ПОСТАНОВЛЕНИЕ СОВЕТА МИНИСТРОВ РЕСПУБЛИКИ БЕЛАРУСЬ</a:t>
            </a:r>
            <a:br>
              <a:rPr sz="2000"/>
            </a:b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22 декабря 2009 г. N 1677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зъятию из обращения подлежат некачественные и фальсифицированные лекарственные средства, лекарственные средства с истекшим сроком годности, а также лекарственные средства, действие регистрационных удостоверений на которые в соответствии с законодательством приостановлено или аннулировано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Статья 10. Качество лекарственных средств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6666"/>
                </a:solidFill>
                <a:latin typeface="Times New Roman"/>
              </a:rPr>
              <a:t>введена 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Законом</a:t>
            </a:r>
            <a:r>
              <a:rPr b="0" lang="ru-RU" sz="2400" spc="-1" strike="noStrike">
                <a:solidFill>
                  <a:srgbClr val="006666"/>
                </a:solidFill>
                <a:latin typeface="Times New Roman"/>
              </a:rPr>
              <a:t> Республики Беларусь от</a:t>
            </a: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17.11.2014 №203-З </a:t>
            </a:r>
            <a:r>
              <a:rPr b="0" lang="ru-RU" sz="2000" spc="-1" strike="noStrike">
                <a:solidFill>
                  <a:srgbClr val="006666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нтроль качества лекарственных средств осуществляется в испытательных лабораториях путем оценки соответствия лекарственных средств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отечественного производства – требованиям фармакопейной статьи производител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зарубежного производства – требованиям нормативного документа производител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изготовленных в аптеках по рецептам врачей или требованиям организаций здравоохранения – требованиям Государственной фармакопеи Республики Беларус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ПОСТАНОВЛЕНИЕ СОВЕТА МИНИСТРОВ РЕСПУБЛИКИ БЕЛАРУСЬ</a:t>
            </a:r>
            <a:br>
              <a:rPr sz="2000"/>
            </a:b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22 декабря 2009 г. N 1677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В случае выявления некачественного или фальсифицированного лекарственного средства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испытательная лаборатория в двухдневный срок направляет в Республиканскую контрольно-аналитическую лабораторию РУП "ЦЭИЗ" и другие испытательные лаборатории письменное уведомление о выявлении некачественного или фальсифицированного лекарственного средства с приложением копии протокола испытаний лекарственного средств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еспубликанская контрольно-аналитическая лаборатория РУП "ЦЭИЗ" в двухдневный срок с момента получения информации испытательных лабораторий, направляет в Министерство здравоохранения проект решения об изъят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ПОСТАНОВЛЕНИЕ СОВЕТА МИНИСТРОВ РЕСПУБЛИКИ БЕЛАРУСЬ</a:t>
            </a:r>
            <a:br>
              <a:rPr sz="2000"/>
            </a:b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22 декабря 2009 г. N 1677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инистерство здравоохранения после рассмотрения проекта решения об изъятии в двухдневный срок принимает решение об изъятии, которое подписывается Министром здравоохранения или уполномоченным им заместителем Министра здравоохранения, заверяется гербовой печатью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 основании решения Министерства здравоохранения об изъятии из обращения лекарственного средства некачественное или фальсифицированное лекарственное средство, а также лекарственное средство, действие регистрационного удостоверения на которое в соответствии с законодательством приостановлено или аннулировано, подлежит изъятию из обращения поставщиком, собственником (владельцем) лекарственного средств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ПОСТАНОВЛЕНИЕ СОВЕТА МИНИСТРОВ РЕСПУБЛИКИ БЕЛАРУСЬ</a:t>
            </a:r>
            <a:br>
              <a:rPr sz="2000"/>
            </a:b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22 декабря 2009 г. N 1677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Поставщик, собственник (владелец) лекарственного средства с момента получения решения об изъятии обеспечивает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в течение 24 часов направление покупателям и в Министерство здравоохранения информации по телефону, письменного уведомления по факсу, почте и электронной почте об изъятии из обращения лекарственного средства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немедленное изъятие лекарственных средств из собственных мест хранения и (или) реализации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хранение изъятых из обращения лекарственных средств в соответствии с требованиями настоящего Положения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возврат производителю или поставщику либо уничтожение некачественного лекарственного средства, а также лекарственного средства, действие регистрационного удостоверения на которое приостановлено или аннулировано, уничтожение фальсифицированного лекарственного средства </a:t>
            </a:r>
            <a:r>
              <a:rPr b="0" lang="ru-RU" sz="1400" spc="-1" strike="noStrike" u="sng">
                <a:solidFill>
                  <a:srgbClr val="003366"/>
                </a:solidFill>
                <a:uFillTx/>
                <a:latin typeface="Arial"/>
              </a:rPr>
              <a:t>в двухмесячный срок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с момента получения уведомления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3366"/>
                </a:solidFill>
                <a:uFillTx/>
                <a:latin typeface="Arial"/>
              </a:rPr>
              <a:t>направление в трехмесячный срок с момента получения решения об изъятии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в Республиканскую контрольно-аналитическую лабораторию РУП "ЦЭИЗ" и Министерство здравоохранения отчета об изъятии из обращения, возврате производителю или поставщику, уничтожении лекарственного средства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Результаты контроля качества зарегистрированных на территории Республики Беларусь ЛС в 2018 году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71280" y="22762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2018 году до поступления в реализацию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 территорию Республики Беларусь  испытательными лабораториями проверено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89519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партий лекарственных средств из них забракована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1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партия или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0,03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%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2089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артий лекарственных средств отечественного производства, из них забраковано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0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партий лекарственных средств или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0,05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%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67430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артий лекарственных средств зарубежного производства, из них забракована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1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партия лекарственных средств или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0,03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%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Результаты контроля качества зарегистрированных на территории Республики Беларусь ЛС в 2018 году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 результатам контроля качества лекарственных средств,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ходящихся в обращении на территории Республики Беларусь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018 году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верено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426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наименований лекарственных средств, из них  признано некачественными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6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именований лекарственных средств или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,8 %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67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– отечественного производства, из них  признано некачественными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3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именований лекарственных средств или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4,9 %: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59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– зарубежного производства, из них  признано некачественными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наименования лекарственных средств ил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,9 %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Количество забракованных  лекарственных средств с указанием страны производителя</a:t>
            </a:r>
            <a:br>
              <a:rPr sz="2400"/>
            </a:b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403280" y="2492280"/>
          <a:ext cx="6122880" cy="3108600"/>
        </p:xfrm>
        <a:graphic>
          <a:graphicData uri="http://schemas.openxmlformats.org/drawingml/2006/table">
            <a:tbl>
              <a:tblPr/>
              <a:tblGrid>
                <a:gridCol w="2162160"/>
                <a:gridCol w="2071800"/>
                <a:gridCol w="1888920"/>
              </a:tblGrid>
              <a:tr h="1828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тран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Забракован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оличество случаев из числа парт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оличество наименован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Республика Беларус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3 из 223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краин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 из 48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акистан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 из 1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льш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 из 74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83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Румы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 из 14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тал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 из 22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нд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 из 39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рм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                   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 из 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спа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 из 15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83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Герма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 из 77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Российская Федерац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 из 34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Республика Молдо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 из 11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Швейцар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 из 15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7 из 899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WordArt 4"/>
          <p:cNvSpPr txBox="1"/>
          <p:nvPr/>
        </p:nvSpPr>
        <p:spPr>
          <a:xfrm>
            <a:off x="2290680" y="2844720"/>
            <a:ext cx="456264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Статья 10. Качество лекарственных средств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6666"/>
                </a:solidFill>
                <a:latin typeface="Times New Roman"/>
              </a:rPr>
              <a:t>введена 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Законом</a:t>
            </a:r>
            <a:r>
              <a:rPr b="0" lang="ru-RU" sz="2400" spc="-1" strike="noStrike">
                <a:solidFill>
                  <a:srgbClr val="006666"/>
                </a:solidFill>
                <a:latin typeface="Times New Roman"/>
              </a:rPr>
              <a:t> Республики Беларусь от</a:t>
            </a: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17.11.2014 №203-З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оизводитель лекарственного средства на каждую выпущенную серию (партию) лекарственного средства выдает документ, подтверждающий соответствие качества лекарственного средства требованиям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ормативного документа производителя или фармакопейной статьи производител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         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Испытательными лабораториями в отношении зарегистрированных на территории Республики Беларусь лекарственных средств отечественного и зарубежного производства осуществляется контроль качества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- каждой ввозимой юридическим лицом или индивидуальным предпринимателем на территорию Республики Беларусь серии (партии) лекарственного средства зарубежного производств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- каждой выпущенной производителем Республики Беларусь серии (партии) лекарственного средства отечественного производств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- лекарственных средств, прошедших контроль качества зарегистрированных лекарственных средств и включенных в график отбора образцов лекарственных средств у юридических лиц или индивидуальных предпринимателей, осуществляющих промышленное производство, реализацию и хранение лекарственных средств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риказ МЗ РБ от 16.11.2018 № 1189 «О контроле качества лекарственных средств»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пределен перечень испытательных лабораторий системы Министерства здравоохранения, аккредитованных в системе аккредитации Республики Беларусь для испытаний лекарственных средств, по выполнению функций контроля качества лекарственных средств до поступления в реализацию и находящихся в обращении на территории Республики Беларусь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еречень испытательных лабораторий системы Министерства здравоохранения Республики Беларусь, аккредитованных в системе аккредитации РБ для испытаний ЛС по выполнению функций контроля качества ЛС до поступления в реализацию на территории РБ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нтрольно-аналитические лаборатории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УП «БЕЛФАРМАЦИЯ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УП «Минская Фармация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рестского РУП «Фармация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итебского РУП «Фармация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омельского РУП «Фармация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родненского РУП «Фармация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огилевского РУП «Фармация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У «РНПЦ эпидемиологии и микробиологии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У «РНПЦ трансфузиологии и медицинских биотехнологий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еречень испытательных лабораторий системы МЗРБ, аккредитованных в системе аккредитации РБ для испытаний ЛС по выполнению функций контроля качества ЛС, находящихся в обращении  на территории РБ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еспубликанская контрольно-аналитическая лаборатория УП «Центр экспертиз и испытаний в здравоохранении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лабораторная служба ГУ «РНПЦ эпидемиологии и микробиологии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Контроль качества зарегистрированных ЛС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нструкция о порядке и условиях проведения контроля качества зарегистрированных  в Республике Беларусь лекарственных средств до поступления в реализацию, а также лекарственных средств, находящихся в обращении на территории Республики Беларусь, утвержденная Постановлением Министерства здравоохранения  Республики Беларусь от 01.03.2010 № 20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в редакции постановления Министерства  Республики  Беларусь от 03.04.2018 № 32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Контроль качества зарегистрированных ЛС до реализации на территории РБ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1. </a:t>
            </a: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по всем показателям и разделам "Упаковка", "Маркировка"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в отношении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1.1. первой серии (партии) лекарственного средства, впервые </a:t>
            </a:r>
            <a:r>
              <a:rPr b="0" lang="ru-RU" sz="1400" spc="-1" strike="noStrike" u="sng">
                <a:solidFill>
                  <a:srgbClr val="003366"/>
                </a:solidFill>
                <a:uFillTx/>
                <a:latin typeface="Arial"/>
              </a:rPr>
              <a:t>выпущенного производителем на территории Республики Беларусь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1.2. серии (партии) впервые зарегистрированного в Республике Беларусь лекарственного средства </a:t>
            </a:r>
            <a:r>
              <a:rPr b="0" lang="ru-RU" sz="1400" spc="-1" strike="noStrike" u="sng">
                <a:solidFill>
                  <a:srgbClr val="003366"/>
                </a:solidFill>
                <a:uFillTx/>
                <a:latin typeface="Arial"/>
              </a:rPr>
              <a:t>зарубежного производства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, произведенного на впервые заявленной производственной площадке при первой поставке на территорию Республики Беларусь,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1.3. фармацевтических субстанций, используемых для аптечного изготовления лекарственных средств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1.4. лекарственных средств, используемых для рентгеноскопии (бария сульфат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1.5. двух последующих серий (партий) лекарственного средства, поставляемых для реализации, </a:t>
            </a:r>
            <a:r>
              <a:rPr b="0" lang="ru-RU" sz="1400" spc="-1" strike="noStrike" u="sng">
                <a:solidFill>
                  <a:srgbClr val="003366"/>
                </a:solidFill>
                <a:uFillTx/>
                <a:latin typeface="Arial"/>
              </a:rPr>
              <a:t>в случае признания испытательными лабораториями некачественными предыдущих серий или партий этого лекарственного средства, а также на основании письменного сообщения производителя лекарственного средства о выявленном несоответствии показателей его качества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1.6. лекарственных средств отечественного и зарубежного производства, включенных в график отбора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7T10:06:12Z</dcterms:created>
  <dc:creator>майсак иа</dc:creator>
  <dc:description/>
  <dc:language>en-US</dc:language>
  <cp:lastModifiedBy>Ковтонюк ИП</cp:lastModifiedBy>
  <cp:lastPrinted>2019-03-12T12:38:19Z</cp:lastPrinted>
  <dcterms:modified xsi:type="dcterms:W3CDTF">2019-03-12T12:45:35Z</dcterms:modified>
  <cp:revision>95</cp:revision>
  <dc:subject/>
  <dc:title>Контроль качества лекарственных средств в РБ</dc:title>
</cp:coreProperties>
</file>