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dt" idx="2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move the slide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ftr" idx="2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 type="sldNum" idx="2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4938-F87D-470C-A6B8-4C001B385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1FD-0448-4D6E-93C7-0AB99A5C0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AEC-85C9-44E1-BEBD-8A250C370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91D2-ECA8-4EA5-80A4-C8E2BB07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C680-1F08-4AF1-AD4B-04D67A3D5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EC2-B923-4182-8EC6-BEFC4A948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8859-2118-4C31-AE69-206841F66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F17-0773-4AA5-A31F-A1382E879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C3C-7831-4C9D-BDC8-9AB8D088D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2972-21F6-4DCD-8B3E-A700E7201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F45C-F645-490F-9284-9934D44C3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2189-D433-4DB2-AD90-5D2D9552C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0556-5819-454D-94FE-CE15E59C4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8E52-8519-46B9-813B-EC7B90A73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C99F-E54C-4D4E-BE68-BF41B0C11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E0D-C4FD-4AB6-9734-9C00F6605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5A27-8007-4678-B3CD-DAB96450B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7D1-DA8C-4476-B6A7-CC9E503C0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17CB-3F6C-4374-9C73-1835E9489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682-E9EE-4DE2-ADA5-226180361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6C0174-B8A9-4FC2-B48B-03AC566C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B6BAF9-89B2-457A-8300-16E37C72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DEF187-FBD1-40EE-9C91-872E4953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1644F-4B09-4B0B-B2C7-97B2682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009B33-B399-4A6B-A93F-EB41455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7C2B4-1CAF-4E17-AB51-4710650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16C548-F686-4B96-9F29-915B0D65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EF50D-5720-48C2-8944-CC773C10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295940-7452-4662-939C-C01F0840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B39A55-64C4-42C6-9813-7C6F1527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764FAF-9352-434B-BB4E-A3770B6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35F33D-1874-4FF9-81BC-95301DD2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57A5A2-8E45-4577-8264-5045C0D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24DD4C-681C-4D11-A4C4-16163322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F5ECE-0269-46E4-AFF5-106F999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B8C8DD-C00C-42CC-B897-FB35B12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27BE10-6D87-480B-865B-8871D2D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A5802-0845-448D-AD15-C79D069F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901367-888E-4E0B-B8EE-085CD3EE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ED52E-6CD4-4CBA-946E-74E3E1C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418EF-BA8F-4851-B5F8-8B74A487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CECF8-5D20-4914-AD69-C31280E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B2B594-CA16-4574-98FF-0AD6716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EF6CFE-8B7D-4BEA-A40D-9443234A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79974-4A3E-48AB-A543-03A95A87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2D7707-E581-4D80-9B8F-7FBD3CA6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CFEF0-9D15-43EF-94EB-6E0A0B1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549F3-4857-4EAA-A126-7587BDE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67263-584A-44FB-8718-82A009FE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AD1F0-0315-418C-A2E5-FC5B4D7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D30484-66C0-408D-AF77-03B73300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08AA8-AEDC-4F96-8946-CD3EB9C7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BA76D-D1FC-4871-A1AE-69BC1755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08D6A-18D4-4627-A5E8-897C3B3A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45ECF-0797-4B4F-87BA-213DE604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56125-8AE5-41D6-851A-7C37BB95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AD4C7-A1F7-478B-94CB-E86E7CEA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77B4E-3AE2-44B6-9A1B-615EE6E2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C6C60-D0EB-4423-824C-17BB2543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02658-6CBF-4AF7-99FA-124FD1EF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857B4-C0CC-48F7-BEED-52AFC94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B686B-B48F-417A-8F0C-82B046CB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22F8E-6AB8-44BB-8B52-FBB8F060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55D4F1-E1B2-4784-859F-39175D2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03383-24D5-403F-9D9A-3E338A8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7B4B1-C5E0-4C3F-8863-142A601D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FC04B-7E88-4B47-B506-4A595893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9934D-35F2-46A1-8CC5-10128A0A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3373D-F5BA-44C0-B46B-D7D003F9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3AA23-C2F0-4482-AE54-69D38FA3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2C8D2-B517-4BAB-840C-B6427B2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8B108-2CDE-4214-BBE6-B1EF6A7F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1CAA4-BFEC-4239-957F-2C146823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75C75-2609-4B83-A1A8-A64D160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33A20-3D7F-4B7A-925F-4AFC4A4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BFCB2-D407-4E9D-9564-2DFB1B4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3E64B-154C-4F59-A0D9-72E044AA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DC80B-83D1-4156-9658-D22CD13C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D8096-FA3D-440D-80DC-67378B2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BB043-171F-45A3-B6CD-3B883D7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A9952-09E0-4BC5-8C69-083824F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79E67-A09B-4E4F-BBD2-0B186A3B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DAF77-8744-4CC5-9B5F-F3F07F1B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85D92-9D65-4B90-A2E6-9CBE7122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FEDD3-A8BA-4686-AB1A-758F8B11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FFC5A-E304-4D6D-886F-B94A897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E9386-81A3-43AF-944E-18E7911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979D5-6AA0-4B74-8172-E738276E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BFF1A-66E2-4487-8692-724D3655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D01F9-988F-4EBA-A2CD-7F11293D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D5C8C-D401-44E1-A2F0-789A049E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F0284-49A2-433C-AA0E-8A4CA0D3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59AD2-E838-484F-940B-4468FB27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B8625-7DC1-4917-BB52-070D5EE8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1CE1C-FEA9-4915-8093-E7235AE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25CE6-B639-4945-8EA0-A057D7CD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103FCA-A6F1-40A0-8089-08FA4D5D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384A7-F518-4EBC-8522-C3A2511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88CE29-C6B2-4F2B-879A-FD503299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EB0B14-B27D-4B30-9259-A76A6840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9A155-049A-49B3-B6E2-9DD03CF1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0C0B74-4C26-45A6-A170-0ABCCF9C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961453-FA13-4329-AC3E-E3E173B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B3360A-E963-41EF-BFFF-B347FBCD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7BEC7-6FFB-4BA8-AA04-E587A56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03074-823C-47FD-87A3-5464858B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7920" y="274680"/>
            <a:ext cx="9134640" cy="18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F9F8AD-0BBE-4CF3-84A3-900D9356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32BE0D-D448-49AB-9F42-8FD17FCF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F82A1-28D7-49A2-9602-47B08B8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63836-3BD6-4CD5-906B-EAFC4D9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0" y="3792240"/>
            <a:ext cx="914256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2858D-8C3E-41A7-A562-ACBBB2A5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5040" y="119700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5040" y="3792240"/>
            <a:ext cx="4461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E9CF5A-A53F-48AC-9866-DDF90534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09132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82640" y="119700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09132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82640" y="3792240"/>
            <a:ext cx="2943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094B3C-0272-453C-B1AB-FB573C29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369D26-6C38-411D-BE5D-19AB2E85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0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2375B9-59BB-4F3C-91D2-BE3D11DC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FC374-14FE-47D2-B32E-DB22861E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D105-2ABC-4CD0-B8A4-8B2319E09B11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10B4-E268-42C6-8497-464EEF7A572B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7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0CC5-34DE-4BD5-B0DD-D6EF55BEBBE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81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7C3-2436-4585-AB20-187C8A363CDA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0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27D6-7730-4B4E-A3B8-319D506068C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527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B812-A590-40A7-96EF-72B06E633926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529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Группа 10"/>
          <p:cNvGrpSpPr/>
          <p:nvPr/>
        </p:nvGrpSpPr>
        <p:grpSpPr>
          <a:xfrm>
            <a:off x="250920" y="1100160"/>
            <a:ext cx="8043840" cy="5065560"/>
            <a:chOff x="250920" y="1100160"/>
            <a:chExt cx="8043840" cy="5065560"/>
          </a:xfrm>
        </p:grpSpPr>
        <p:pic>
          <p:nvPicPr>
            <p:cNvPr id="531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273960" y="1100160"/>
              <a:ext cx="80208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Прямая соединительная линия 12"/>
            <p:cNvSpPr/>
            <p:nvPr/>
          </p:nvSpPr>
          <p:spPr>
            <a:xfrm flipH="1">
              <a:off x="250920" y="2737080"/>
              <a:ext cx="131040" cy="5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Прямая соединительная линия 13"/>
            <p:cNvSpPr/>
            <p:nvPr/>
          </p:nvSpPr>
          <p:spPr>
            <a:xfrm>
              <a:off x="250920" y="2737080"/>
              <a:ext cx="0" cy="22734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Прямая соединительная линия 15"/>
            <p:cNvSpPr/>
            <p:nvPr/>
          </p:nvSpPr>
          <p:spPr>
            <a:xfrm>
              <a:off x="250920" y="5010480"/>
              <a:ext cx="313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Прямая соединительная линия 16"/>
            <p:cNvSpPr/>
            <p:nvPr/>
          </p:nvSpPr>
          <p:spPr>
            <a:xfrm>
              <a:off x="250920" y="418680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Прямая соединительная линия 17"/>
            <p:cNvSpPr/>
            <p:nvPr/>
          </p:nvSpPr>
          <p:spPr>
            <a:xfrm>
              <a:off x="250920" y="345528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ая соединительная линия 18"/>
            <p:cNvSpPr/>
            <p:nvPr/>
          </p:nvSpPr>
          <p:spPr>
            <a:xfrm flipH="1" flipV="1">
              <a:off x="3524400" y="1645200"/>
              <a:ext cx="75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19"/>
            <p:cNvSpPr/>
            <p:nvPr/>
          </p:nvSpPr>
          <p:spPr>
            <a:xfrm flipH="1" flipV="1">
              <a:off x="1659600" y="1645200"/>
              <a:ext cx="93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Прямая соединительная линия 20"/>
            <p:cNvSpPr/>
            <p:nvPr/>
          </p:nvSpPr>
          <p:spPr>
            <a:xfrm>
              <a:off x="3196440" y="2313000"/>
              <a:ext cx="0" cy="2697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Прямая соединительная линия 21"/>
            <p:cNvSpPr/>
            <p:nvPr/>
          </p:nvSpPr>
          <p:spPr>
            <a:xfrm flipV="1">
              <a:off x="4440960" y="1542240"/>
              <a:ext cx="0" cy="102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22"/>
            <p:cNvSpPr/>
            <p:nvPr/>
          </p:nvSpPr>
          <p:spPr>
            <a:xfrm>
              <a:off x="3196440" y="27370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23"/>
            <p:cNvSpPr/>
            <p:nvPr/>
          </p:nvSpPr>
          <p:spPr>
            <a:xfrm>
              <a:off x="3196440" y="34552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Прямая соединительная линия 24"/>
            <p:cNvSpPr/>
            <p:nvPr/>
          </p:nvSpPr>
          <p:spPr>
            <a:xfrm>
              <a:off x="3196440" y="5010480"/>
              <a:ext cx="160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Прямая соединительная линия 25"/>
            <p:cNvSpPr/>
            <p:nvPr/>
          </p:nvSpPr>
          <p:spPr>
            <a:xfrm>
              <a:off x="3196440" y="4267080"/>
              <a:ext cx="149760" cy="10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Прямая соединительная линия 26"/>
            <p:cNvSpPr/>
            <p:nvPr/>
          </p:nvSpPr>
          <p:spPr>
            <a:xfrm flipV="1">
              <a:off x="4312800" y="1988640"/>
              <a:ext cx="1175400" cy="27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Прямая соединительная линия 27"/>
            <p:cNvSpPr/>
            <p:nvPr/>
          </p:nvSpPr>
          <p:spPr>
            <a:xfrm>
              <a:off x="5488560" y="1989000"/>
              <a:ext cx="0" cy="384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Прямая соединительная линия 28"/>
            <p:cNvSpPr/>
            <p:nvPr/>
          </p:nvSpPr>
          <p:spPr>
            <a:xfrm>
              <a:off x="5096160" y="3085560"/>
              <a:ext cx="0" cy="2680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Прямая соединительная линия 29"/>
            <p:cNvSpPr/>
            <p:nvPr/>
          </p:nvSpPr>
          <p:spPr>
            <a:xfrm flipV="1">
              <a:off x="5096160" y="3633840"/>
              <a:ext cx="232920" cy="2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Прямая соединительная линия 30"/>
            <p:cNvSpPr/>
            <p:nvPr/>
          </p:nvSpPr>
          <p:spPr>
            <a:xfrm>
              <a:off x="5085000" y="4471560"/>
              <a:ext cx="2077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Прямая соединительная линия 31"/>
            <p:cNvSpPr/>
            <p:nvPr/>
          </p:nvSpPr>
          <p:spPr>
            <a:xfrm>
              <a:off x="5096160" y="5078880"/>
              <a:ext cx="2235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рямая соединительная линия 32"/>
            <p:cNvSpPr/>
            <p:nvPr/>
          </p:nvSpPr>
          <p:spPr>
            <a:xfrm>
              <a:off x="5085000" y="5766480"/>
              <a:ext cx="2343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592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86E-48B7-4A40-ABF3-22A09B5E8878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Рисунок 10" descr=""/>
          <p:cNvPicPr/>
          <p:nvPr/>
        </p:nvPicPr>
        <p:blipFill>
          <a:blip r:embed="rId4"/>
          <a:stretch/>
        </p:blipFill>
        <p:spPr>
          <a:xfrm>
            <a:off x="5313240" y="2781360"/>
            <a:ext cx="3456000" cy="30020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4F5F-445F-4C98-99B3-6B0FF3C7FF2F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638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Группа 10"/>
          <p:cNvGrpSpPr/>
          <p:nvPr/>
        </p:nvGrpSpPr>
        <p:grpSpPr>
          <a:xfrm>
            <a:off x="250920" y="1100160"/>
            <a:ext cx="8043840" cy="5065560"/>
            <a:chOff x="250920" y="1100160"/>
            <a:chExt cx="8043840" cy="5065560"/>
          </a:xfrm>
        </p:grpSpPr>
        <p:pic>
          <p:nvPicPr>
            <p:cNvPr id="640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273960" y="1100160"/>
              <a:ext cx="80208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Прямая соединительная линия 12"/>
            <p:cNvSpPr/>
            <p:nvPr/>
          </p:nvSpPr>
          <p:spPr>
            <a:xfrm flipH="1">
              <a:off x="250920" y="2737080"/>
              <a:ext cx="131040" cy="5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13"/>
            <p:cNvSpPr/>
            <p:nvPr/>
          </p:nvSpPr>
          <p:spPr>
            <a:xfrm>
              <a:off x="250920" y="2737080"/>
              <a:ext cx="0" cy="22734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15"/>
            <p:cNvSpPr/>
            <p:nvPr/>
          </p:nvSpPr>
          <p:spPr>
            <a:xfrm>
              <a:off x="250920" y="5010480"/>
              <a:ext cx="313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ая соединительная линия 16"/>
            <p:cNvSpPr/>
            <p:nvPr/>
          </p:nvSpPr>
          <p:spPr>
            <a:xfrm>
              <a:off x="250920" y="418680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Прямая соединительная линия 17"/>
            <p:cNvSpPr/>
            <p:nvPr/>
          </p:nvSpPr>
          <p:spPr>
            <a:xfrm>
              <a:off x="250920" y="345528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Прямая соединительная линия 18"/>
            <p:cNvSpPr/>
            <p:nvPr/>
          </p:nvSpPr>
          <p:spPr>
            <a:xfrm flipH="1" flipV="1">
              <a:off x="3524400" y="1645200"/>
              <a:ext cx="75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Прямая соединительная линия 19"/>
            <p:cNvSpPr/>
            <p:nvPr/>
          </p:nvSpPr>
          <p:spPr>
            <a:xfrm flipH="1" flipV="1">
              <a:off x="1659600" y="1645200"/>
              <a:ext cx="93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Прямая соединительная линия 20"/>
            <p:cNvSpPr/>
            <p:nvPr/>
          </p:nvSpPr>
          <p:spPr>
            <a:xfrm>
              <a:off x="3196440" y="2313000"/>
              <a:ext cx="0" cy="2697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Прямая соединительная линия 21"/>
            <p:cNvSpPr/>
            <p:nvPr/>
          </p:nvSpPr>
          <p:spPr>
            <a:xfrm flipV="1">
              <a:off x="4440960" y="1542240"/>
              <a:ext cx="0" cy="102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Прямая соединительная линия 22"/>
            <p:cNvSpPr/>
            <p:nvPr/>
          </p:nvSpPr>
          <p:spPr>
            <a:xfrm>
              <a:off x="3196440" y="27370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Прямая соединительная линия 23"/>
            <p:cNvSpPr/>
            <p:nvPr/>
          </p:nvSpPr>
          <p:spPr>
            <a:xfrm>
              <a:off x="3196440" y="34552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Прямая соединительная линия 24"/>
            <p:cNvSpPr/>
            <p:nvPr/>
          </p:nvSpPr>
          <p:spPr>
            <a:xfrm>
              <a:off x="3196440" y="5010480"/>
              <a:ext cx="160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Прямая соединительная линия 25"/>
            <p:cNvSpPr/>
            <p:nvPr/>
          </p:nvSpPr>
          <p:spPr>
            <a:xfrm>
              <a:off x="3196440" y="4267080"/>
              <a:ext cx="149760" cy="10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Прямая соединительная линия 26"/>
            <p:cNvSpPr/>
            <p:nvPr/>
          </p:nvSpPr>
          <p:spPr>
            <a:xfrm flipV="1">
              <a:off x="4312800" y="1988640"/>
              <a:ext cx="1175400" cy="27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Прямая соединительная линия 27"/>
            <p:cNvSpPr/>
            <p:nvPr/>
          </p:nvSpPr>
          <p:spPr>
            <a:xfrm>
              <a:off x="5488560" y="1989000"/>
              <a:ext cx="0" cy="384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Прямая соединительная линия 28"/>
            <p:cNvSpPr/>
            <p:nvPr/>
          </p:nvSpPr>
          <p:spPr>
            <a:xfrm>
              <a:off x="5096160" y="3085560"/>
              <a:ext cx="0" cy="2680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Прямая соединительная линия 29"/>
            <p:cNvSpPr/>
            <p:nvPr/>
          </p:nvSpPr>
          <p:spPr>
            <a:xfrm flipV="1">
              <a:off x="5096160" y="3633840"/>
              <a:ext cx="232920" cy="2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Прямая соединительная линия 30"/>
            <p:cNvSpPr/>
            <p:nvPr/>
          </p:nvSpPr>
          <p:spPr>
            <a:xfrm>
              <a:off x="5085000" y="4471560"/>
              <a:ext cx="2077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Прямая соединительная линия 31"/>
            <p:cNvSpPr/>
            <p:nvPr/>
          </p:nvSpPr>
          <p:spPr>
            <a:xfrm>
              <a:off x="5096160" y="5078880"/>
              <a:ext cx="2235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Прямая соединительная линия 32"/>
            <p:cNvSpPr/>
            <p:nvPr/>
          </p:nvSpPr>
          <p:spPr>
            <a:xfrm>
              <a:off x="5085000" y="5766480"/>
              <a:ext cx="2343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701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1799-A82A-4338-B53A-25F3B45D8FCA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703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Рисунок 10" descr=""/>
          <p:cNvPicPr/>
          <p:nvPr/>
        </p:nvPicPr>
        <p:blipFill>
          <a:blip r:embed="rId4"/>
          <a:stretch/>
        </p:blipFill>
        <p:spPr>
          <a:xfrm>
            <a:off x="5313240" y="2781360"/>
            <a:ext cx="3456000" cy="300204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74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25C-C313-4D81-8B81-F06852D94154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74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5C3-D627-47CD-80B8-418BC88AF4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890-BFDF-4AF1-8C55-FC252EA5A0FD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5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"/>
          <p:cNvPicPr/>
          <p:nvPr/>
        </p:nvPicPr>
        <p:blipFill>
          <a:blip r:embed="rId5"/>
          <a:stretch/>
        </p:blipFill>
        <p:spPr>
          <a:xfrm>
            <a:off x="-9360" y="0"/>
            <a:ext cx="1790640" cy="157464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5"/>
          <p:cNvSpPr/>
          <p:nvPr/>
        </p:nvSpPr>
        <p:spPr>
          <a:xfrm>
            <a:off x="60480" y="345600"/>
            <a:ext cx="9144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Министерство здравоохранения Республики Беларусь</a:t>
            </a: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5"/>
          <p:cNvSpPr/>
          <p:nvPr/>
        </p:nvSpPr>
        <p:spPr>
          <a:xfrm>
            <a:off x="-14400" y="1557360"/>
            <a:ext cx="915048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19160" y="64152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спубликанское унитарное предприя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Центр экспертиз и испытаний в здравоохранен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1"/>
          </p:nvPr>
        </p:nvSpPr>
        <p:spPr>
          <a:xfrm>
            <a:off x="3124080" y="6064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Минск, 2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BCD-B3CF-4F10-BEEA-3A5537A4E936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10"/>
          <p:cNvGrpSpPr/>
          <p:nvPr/>
        </p:nvGrpSpPr>
        <p:grpSpPr>
          <a:xfrm>
            <a:off x="250920" y="1100160"/>
            <a:ext cx="8043840" cy="5065560"/>
            <a:chOff x="250920" y="1100160"/>
            <a:chExt cx="8043840" cy="5065560"/>
          </a:xfrm>
        </p:grpSpPr>
        <p:pic>
          <p:nvPicPr>
            <p:cNvPr id="99" name="Группа 10" descr=""/>
            <p:cNvPicPr/>
            <p:nvPr/>
          </p:nvPicPr>
          <p:blipFill>
            <a:blip r:embed="rId4"/>
            <a:stretch/>
          </p:blipFill>
          <p:spPr>
            <a:xfrm>
              <a:off x="273960" y="1100160"/>
              <a:ext cx="80208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ая соединительная линия 12"/>
            <p:cNvSpPr/>
            <p:nvPr/>
          </p:nvSpPr>
          <p:spPr>
            <a:xfrm flipH="1">
              <a:off x="250920" y="2737080"/>
              <a:ext cx="131040" cy="57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13"/>
            <p:cNvSpPr/>
            <p:nvPr/>
          </p:nvSpPr>
          <p:spPr>
            <a:xfrm>
              <a:off x="250920" y="1985760"/>
              <a:ext cx="0" cy="302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15"/>
            <p:cNvSpPr/>
            <p:nvPr/>
          </p:nvSpPr>
          <p:spPr>
            <a:xfrm>
              <a:off x="250920" y="5010480"/>
              <a:ext cx="313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16"/>
            <p:cNvSpPr/>
            <p:nvPr/>
          </p:nvSpPr>
          <p:spPr>
            <a:xfrm>
              <a:off x="250920" y="418680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17"/>
            <p:cNvSpPr/>
            <p:nvPr/>
          </p:nvSpPr>
          <p:spPr>
            <a:xfrm>
              <a:off x="250920" y="3455280"/>
              <a:ext cx="28764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8"/>
            <p:cNvSpPr/>
            <p:nvPr/>
          </p:nvSpPr>
          <p:spPr>
            <a:xfrm flipH="1" flipV="1">
              <a:off x="3524400" y="1645200"/>
              <a:ext cx="75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ая соединительная линия 19"/>
            <p:cNvSpPr/>
            <p:nvPr/>
          </p:nvSpPr>
          <p:spPr>
            <a:xfrm flipH="1" flipV="1">
              <a:off x="1659600" y="1645200"/>
              <a:ext cx="9360" cy="756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ая соединительная линия 20"/>
            <p:cNvSpPr/>
            <p:nvPr/>
          </p:nvSpPr>
          <p:spPr>
            <a:xfrm>
              <a:off x="3196440" y="2313000"/>
              <a:ext cx="0" cy="2697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21"/>
            <p:cNvSpPr/>
            <p:nvPr/>
          </p:nvSpPr>
          <p:spPr>
            <a:xfrm flipV="1">
              <a:off x="4440960" y="1542240"/>
              <a:ext cx="0" cy="1029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22"/>
            <p:cNvSpPr/>
            <p:nvPr/>
          </p:nvSpPr>
          <p:spPr>
            <a:xfrm>
              <a:off x="3196440" y="27370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23"/>
            <p:cNvSpPr/>
            <p:nvPr/>
          </p:nvSpPr>
          <p:spPr>
            <a:xfrm>
              <a:off x="3196440" y="3455280"/>
              <a:ext cx="1497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24"/>
            <p:cNvSpPr/>
            <p:nvPr/>
          </p:nvSpPr>
          <p:spPr>
            <a:xfrm>
              <a:off x="3196440" y="5010480"/>
              <a:ext cx="1609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ая соединительная линия 25"/>
            <p:cNvSpPr/>
            <p:nvPr/>
          </p:nvSpPr>
          <p:spPr>
            <a:xfrm>
              <a:off x="3196440" y="4267080"/>
              <a:ext cx="149760" cy="10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Прямая соединительная линия 26"/>
            <p:cNvSpPr/>
            <p:nvPr/>
          </p:nvSpPr>
          <p:spPr>
            <a:xfrm flipV="1">
              <a:off x="4312800" y="1988640"/>
              <a:ext cx="1175400" cy="27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Прямая соединительная линия 27"/>
            <p:cNvSpPr/>
            <p:nvPr/>
          </p:nvSpPr>
          <p:spPr>
            <a:xfrm>
              <a:off x="5488560" y="1989000"/>
              <a:ext cx="0" cy="3844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28"/>
            <p:cNvSpPr/>
            <p:nvPr/>
          </p:nvSpPr>
          <p:spPr>
            <a:xfrm>
              <a:off x="5096160" y="3085560"/>
              <a:ext cx="0" cy="2680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29"/>
            <p:cNvSpPr/>
            <p:nvPr/>
          </p:nvSpPr>
          <p:spPr>
            <a:xfrm flipV="1">
              <a:off x="5096160" y="3633840"/>
              <a:ext cx="232920" cy="288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30"/>
            <p:cNvSpPr/>
            <p:nvPr/>
          </p:nvSpPr>
          <p:spPr>
            <a:xfrm>
              <a:off x="5085000" y="4471560"/>
              <a:ext cx="20772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рямая соединительная линия 31"/>
            <p:cNvSpPr/>
            <p:nvPr/>
          </p:nvSpPr>
          <p:spPr>
            <a:xfrm>
              <a:off x="5096160" y="5078880"/>
              <a:ext cx="2235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рямая соединительная линия 32"/>
            <p:cNvSpPr/>
            <p:nvPr/>
          </p:nvSpPr>
          <p:spPr>
            <a:xfrm>
              <a:off x="5085000" y="5766480"/>
              <a:ext cx="23436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ая соединительная линия 65"/>
          <p:cNvSpPr/>
          <p:nvPr/>
        </p:nvSpPr>
        <p:spPr>
          <a:xfrm>
            <a:off x="228600" y="1916280"/>
            <a:ext cx="6714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964-61FB-4882-AD81-6E3B88F8F296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0" descr=""/>
          <p:cNvPicPr/>
          <p:nvPr/>
        </p:nvPicPr>
        <p:blipFill>
          <a:blip r:embed="rId4"/>
          <a:stretch/>
        </p:blipFill>
        <p:spPr>
          <a:xfrm>
            <a:off x="5313240" y="2781360"/>
            <a:ext cx="3456000" cy="3002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8623-0DC0-486E-BC01-D01A06883D87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2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974C-2FA3-4EED-ADE0-B80EB437D1F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BD00-2147-4254-A3E1-C17529BBFABC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5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B3BC-6B3F-4501-A198-46831B316E1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F23D-2189-4AB0-A227-BA5CAA32CB3D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8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9DF-3437-44A0-861B-05C8AA01D1D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ADF2-FEE3-4FA5-8152-9AC24B82938D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1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A299-12EC-40A5-ABA5-7104D7A1CAF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ая соединительная линия 9"/>
          <p:cNvSpPr/>
          <p:nvPr/>
        </p:nvSpPr>
        <p:spPr>
          <a:xfrm>
            <a:off x="0" y="981000"/>
            <a:ext cx="91425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9" descr=""/>
          <p:cNvPicPr/>
          <p:nvPr/>
        </p:nvPicPr>
        <p:blipFill>
          <a:blip r:embed="rId2"/>
          <a:stretch/>
        </p:blipFill>
        <p:spPr>
          <a:xfrm>
            <a:off x="-1440" y="5805360"/>
            <a:ext cx="9161280" cy="10526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1"/>
          <p:cNvSpPr/>
          <p:nvPr/>
        </p:nvSpPr>
        <p:spPr>
          <a:xfrm>
            <a:off x="-1440" y="63612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17CF-4CC3-4A15-9C5A-73E8E2F69760}" type="slidenum">
              <a:rPr b="0" lang="ru-RU" sz="1400" spc="-1" strike="noStrike">
                <a:solidFill>
                  <a:srgbClr val="0000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Рисунок 2" descr=""/>
          <p:cNvPicPr/>
          <p:nvPr/>
        </p:nvPicPr>
        <p:blipFill>
          <a:blip r:embed="rId3"/>
          <a:stretch/>
        </p:blipFill>
        <p:spPr>
          <a:xfrm>
            <a:off x="6719760" y="6404040"/>
            <a:ext cx="419400" cy="4316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4"/>
          <p:cNvSpPr/>
          <p:nvPr/>
        </p:nvSpPr>
        <p:spPr>
          <a:xfrm>
            <a:off x="7099200" y="6515280"/>
            <a:ext cx="218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УП «Центр эксперт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99"/>
                </a:solidFill>
                <a:latin typeface="Calibri"/>
              </a:rPr>
              <a:t>и испытаний в здравоохранении</a:t>
            </a:r>
            <a:r>
              <a:rPr b="1" i="1" lang="ru-RU" sz="900" spc="-1" strike="noStrike">
                <a:solidFill>
                  <a:srgbClr val="003399"/>
                </a:solidFill>
                <a:latin typeface="Calibri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920" y="274680"/>
            <a:ext cx="91346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Calibri"/>
              </a:rPr>
              <a:t>Click to edit the title text format</a:t>
            </a:r>
            <a:endParaRPr b="0" i="1" lang="en-US" sz="1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0" y="1197000"/>
            <a:ext cx="91425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32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503280" indent="-343080">
              <a:buClr>
                <a:srgbClr val="1f497d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2" marL="503280" indent="-343080">
              <a:buClr>
                <a:srgbClr val="1f497d"/>
              </a:buClr>
              <a:buFont typeface="Calibri"/>
              <a:buChar char="―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503280" indent="-343080">
              <a:buClr>
                <a:srgbClr val="1f497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4" marL="503280" indent="-343080">
              <a:buClr>
                <a:srgbClr val="1f497d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5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6" marL="5032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4"/>
          </p:nvPr>
        </p:nvSpPr>
        <p:spPr>
          <a:xfrm>
            <a:off x="183960" y="6377040"/>
            <a:ext cx="127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BC36-62BA-43DC-BD58-C08E3836C53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Rectangle 2" descr=""/>
          <p:cNvPicPr/>
          <p:nvPr/>
        </p:nvPicPr>
        <p:blipFill>
          <a:blip r:embed="rId1"/>
          <a:stretch/>
        </p:blipFill>
        <p:spPr>
          <a:xfrm>
            <a:off x="195120" y="1895400"/>
            <a:ext cx="6699240" cy="2335320"/>
          </a:xfrm>
          <a:prstGeom prst="rect">
            <a:avLst/>
          </a:prstGeom>
          <a:ln w="0">
            <a:noFill/>
          </a:ln>
        </p:spPr>
      </p:pic>
      <p:pic>
        <p:nvPicPr>
          <p:cNvPr id="797" name="Подзаголовок 2" descr=""/>
          <p:cNvPicPr/>
          <p:nvPr/>
        </p:nvPicPr>
        <p:blipFill>
          <a:blip r:embed="rId2"/>
          <a:stretch/>
        </p:blipFill>
        <p:spPr>
          <a:xfrm>
            <a:off x="5315040" y="4608360"/>
            <a:ext cx="1811160" cy="506520"/>
          </a:xfrm>
          <a:prstGeom prst="rect">
            <a:avLst/>
          </a:prstGeom>
          <a:ln w="0">
            <a:noFill/>
          </a:ln>
        </p:spPr>
      </p:pic>
      <p:sp>
        <p:nvSpPr>
          <p:cNvPr id="798" name="Прямоугольник 3"/>
          <p:cNvSpPr/>
          <p:nvPr/>
        </p:nvSpPr>
        <p:spPr>
          <a:xfrm>
            <a:off x="2700360" y="6095880"/>
            <a:ext cx="24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инск,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361620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6"/>
          <p:cNvSpPr/>
          <p:nvPr/>
        </p:nvSpPr>
        <p:spPr>
          <a:xfrm>
            <a:off x="4643280" y="549360"/>
            <a:ext cx="2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8" descr="MC900197943[1]"/>
          <p:cNvPicPr/>
          <p:nvPr/>
        </p:nvPicPr>
        <p:blipFill>
          <a:blip r:embed="rId3"/>
          <a:stretch/>
        </p:blipFill>
        <p:spPr>
          <a:xfrm>
            <a:off x="6896160" y="2114640"/>
            <a:ext cx="204624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Закон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 Республики Беларусь № 161-З «</a:t>
            </a: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О лекарственных средствах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»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62" name="Прямоугольник 5"/>
          <p:cNvSpPr/>
          <p:nvPr/>
        </p:nvSpPr>
        <p:spPr>
          <a:xfrm>
            <a:off x="179280" y="1306440"/>
            <a:ext cx="8929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8. Государственная регистрация (подтверждение государственной регистрации) лекарственн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 впервые регистрируемое в Республике Беларусь лекарственное средство выдается регистрационное удостоверение со сроком действия пять лет при подтверждении государственной регистрации на лекарственное средство выдается бессрочное регистрационное удостове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ля государственной государственной регистрации (подтверждения государственной регистрации) лекарственного средства заявитель представляет регистрационное дос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Закон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 Республики Беларусь № 161-З «</a:t>
            </a: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О лекарственных средствах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»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64" name="Прямоугольник 5"/>
          <p:cNvSpPr/>
          <p:nvPr/>
        </p:nvSpPr>
        <p:spPr>
          <a:xfrm>
            <a:off x="108000" y="1052640"/>
            <a:ext cx="900108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8. Государственная регистрация (подтверждение государственной регистрации) лекарственн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государственной регистрации (подтверждении государственной регистрации) лекарственного средства, во внесении изменений в регистрационное досье отказывается в случа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епредставления заявителем документов, составляющих регистрационное дос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есоответствия документов, составляющих регистрационное досье, установленным требовани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еустранения замечаний по результатам экспертизы документов, составляющих регистрационное дос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еобходимости проведения дополнительных клинических испытаний, доклинических исследований, а также иных исследований для подтверждения безопасности, эффективности и качества лекарственного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получения отрицательных результатов клинических испытаний лекарственного средства либо иных исследований для подтверждения безопасности, эффективности и качества лекарственного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Закон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 Республики Беларусь № 161-З «</a:t>
            </a: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О лекарственных средствах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»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66" name="Прямоугольник 5"/>
          <p:cNvSpPr/>
          <p:nvPr/>
        </p:nvSpPr>
        <p:spPr>
          <a:xfrm>
            <a:off x="108000" y="1052640"/>
            <a:ext cx="9001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8. Государственная регистрация (подтверждение государственной регистрации) лекарственн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несоответствия проведенных клинических испытаний лекарственного средства требованиям Надлежащей клинической практики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есоответствия промышленного производства лекарственного средства требованиям Надлежащей производственной прак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если при экспертизе документов, составляющих регистрационное досье, установлено, что эффективность регистрируемого лекарственного средства не подтверждена или риск причинения вреда здоровью человека вследствие медицинского применения лекарственного средства превышает эффективность его приме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наличия в составе лекарственного средства вещества, не разрешенного для применения в Республике Белару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 по ряду иных оснований, поименованных в Зак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Постановления Совета Министров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Республики Беларусь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68" name="Прямоугольник 6"/>
          <p:cNvSpPr/>
          <p:nvPr/>
        </p:nvSpPr>
        <p:spPr>
          <a:xfrm>
            <a:off x="250920" y="1197000"/>
            <a:ext cx="885816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Совета Министров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публики Беларусь от 17 февраля 2012 г. №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единого перечня административных процедур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уществляемых государственными органами и иными организациями в отношении юридических лиц и индивидуальных предпринимателей, внесении дополнения в постановление Совета Министров Республики Беларусь от 14 февраля 2009 г. № 193 и признании утратившими силу некоторых постановлений Совета Министров Республики Беларусь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станавливает перечень административных процедур по проведению регистрации (подтверждения регистрации) и внесения изменений в регистрационное досье на лекарственное средство (фармацевтическую субстанцию), ранее зарегистрированное в Республике Беларусь, перечень документов и (или) сведений, представляемых заинтересованными лицами в уполномоченный орган для осуществления административной процедуры, а также срок осуществления административных процед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Совета Министров Республики Беларусь от 01.04.2015 № 254 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государственной регистрации (подтверждении государственной регистрации) лекарственных средств и фармацевтических субстанций и внесении изменений и дополнений в постановление Совета Министров Республики Беларусь от 2 сентября 2008 г. № 1269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станавливает  порядок и условия государственной регистрации (подтверждения государственной регистрации) лекарственных средств и фармацевтических субстанций, внесения изменений в регистрационное дос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Постановления Министерства здравоохранения Республики Беларусь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70" name="Прямоугольник 7"/>
          <p:cNvSpPr/>
          <p:nvPr/>
        </p:nvSpPr>
        <p:spPr>
          <a:xfrm>
            <a:off x="324000" y="1197000"/>
            <a:ext cx="8785080" cy="41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Министерства здравоохранения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Беларусь от 23.04.2015 №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екоторых мерах по реализации постановления Совета Минист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Беларусь от 1 апреля 2015 г. № 254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Утверждена Инструкция о порядке организации и проведения комплекса предварительных технических работ, связанных с проведением экспертиз, инспектирования промышленного производства лекарственных средств и фармацевтических субстанций, испытаний и других исследований, предшествующих государственной регистрации (подтверждению государственной регистрации) лекарственных средств и фармацевтических субстанций, внесению изменений в регистрационное досье на лекарственное средство, фармацевтическую субстанцию, ранее зарегистрированные в Республике 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Министерства здравоохранения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Беларусь от 08.05.2009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52 «О требованиях к документам, представляемым для государственной регистрации (подтверждения государственной регистрации) лекарственных средств, государственной регистрации фармацевтических субстанций, внесения изменений в регистрационное досье на лекарственные средства, фармацевтические субстанции, ранее зарегистрированные в Республике Беларусь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11280" y="114120"/>
            <a:ext cx="7826400" cy="58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Осуществление регистрации лекарственных средств</a:t>
            </a:r>
            <a:endParaRPr b="0" i="1" lang="en-US" sz="23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72" name="AutoShape 4"/>
          <p:cNvSpPr/>
          <p:nvPr/>
        </p:nvSpPr>
        <p:spPr>
          <a:xfrm>
            <a:off x="1187280" y="835200"/>
            <a:ext cx="6058080" cy="82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5"/>
          <p:cNvSpPr/>
          <p:nvPr/>
        </p:nvSpPr>
        <p:spPr>
          <a:xfrm>
            <a:off x="387360" y="976320"/>
            <a:ext cx="8561520" cy="4208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нистерство здравоохранения Республики Бела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6"/>
          <p:cNvSpPr/>
          <p:nvPr/>
        </p:nvSpPr>
        <p:spPr>
          <a:xfrm>
            <a:off x="1539720" y="1960560"/>
            <a:ext cx="7116840" cy="4604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нтр экспертиз и испытаний в здравоохранени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7"/>
          <p:cNvSpPr/>
          <p:nvPr/>
        </p:nvSpPr>
        <p:spPr>
          <a:xfrm>
            <a:off x="684360" y="1312920"/>
            <a:ext cx="8061120" cy="46044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ринятие решения о регистрации (подтверждении регистрации) и назначении клинических (биоэквивалентных) испытан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8"/>
          <p:cNvSpPr/>
          <p:nvPr/>
        </p:nvSpPr>
        <p:spPr>
          <a:xfrm>
            <a:off x="1619280" y="2276640"/>
            <a:ext cx="6927840" cy="43164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омплекс предварительных технических работ, предшествующих государственной регистрации лекарственных сред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0"/>
          <p:cNvSpPr/>
          <p:nvPr/>
        </p:nvSpPr>
        <p:spPr>
          <a:xfrm>
            <a:off x="95400" y="2852640"/>
            <a:ext cx="4438440" cy="5558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е лекарственных средств (УЛ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Прямая со стрелкой 24"/>
          <p:cNvCxnSpPr/>
          <p:nvPr/>
        </p:nvCxnSpPr>
        <p:spPr>
          <a:xfrm>
            <a:off x="1907640" y="2707920"/>
            <a:ext cx="1080" cy="153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Прямая со стрелкой 28"/>
          <p:cNvCxnSpPr/>
          <p:nvPr/>
        </p:nvCxnSpPr>
        <p:spPr>
          <a:xfrm>
            <a:off x="8316720" y="2707920"/>
            <a:ext cx="1080" cy="153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0" name="Прямая со стрелкой 26"/>
          <p:cNvCxnSpPr/>
          <p:nvPr/>
        </p:nvCxnSpPr>
        <p:spPr>
          <a:xfrm>
            <a:off x="4858920" y="1773000"/>
            <a:ext cx="1080" cy="176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AutoShape 12"/>
          <p:cNvSpPr/>
          <p:nvPr/>
        </p:nvSpPr>
        <p:spPr>
          <a:xfrm>
            <a:off x="4713120" y="2852640"/>
            <a:ext cx="4392720" cy="54612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правление надлежащих фармацевтических практик (УНФ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8"/>
          <p:cNvSpPr/>
          <p:nvPr/>
        </p:nvSpPr>
        <p:spPr>
          <a:xfrm>
            <a:off x="179280" y="3357720"/>
            <a:ext cx="4281480" cy="237636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Первичная экспертиза регистрационного дось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Подготовка материалов для рассмотрения Комиссией по лекарственным средствам Министерства здравоохранения Республики Беларус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Внесение информации в Государственный реестр лекарственных средст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Выдача регистрационного удостоверения, утвержденных инструкции по медицинскому применению, листка-вкладыша, дизайна первичной и вторичной упаково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/>
          <p:cNvSpPr/>
          <p:nvPr/>
        </p:nvSpPr>
        <p:spPr>
          <a:xfrm>
            <a:off x="4799160" y="3357720"/>
            <a:ext cx="4221000" cy="237636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 </a:t>
            </a: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GMP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инспек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 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Выдача</a:t>
            </a: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 GMP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сертификата отечественным производителя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Разработка программ и проведение семинаров по обращению лекарственных средств и обеспечению их безопасности, эффективности и качеств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 Организация и проведение семинаров для врачей-исследователей по национальным и международным правилам надлежащей клинической практ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10"/>
          <p:cNvSpPr/>
          <p:nvPr/>
        </p:nvSpPr>
        <p:spPr>
          <a:xfrm>
            <a:off x="387360" y="5805360"/>
            <a:ext cx="3798720" cy="5050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аборатория фармакопейного и фармацевтического анализа (ЛФФ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0"/>
          <p:cNvSpPr/>
          <p:nvPr/>
        </p:nvSpPr>
        <p:spPr>
          <a:xfrm>
            <a:off x="5106960" y="5805360"/>
            <a:ext cx="3786120" cy="5050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спубликанская клинико-фармакологическая лаборатория (РКФЛ)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Прямая со стрелкой 24"/>
          <p:cNvCxnSpPr/>
          <p:nvPr/>
        </p:nvCxnSpPr>
        <p:spPr>
          <a:xfrm>
            <a:off x="4642920" y="2708280"/>
            <a:ext cx="1080" cy="3385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7" name="Прямая со стрелкой 15"/>
          <p:cNvCxnSpPr/>
          <p:nvPr/>
        </p:nvCxnSpPr>
        <p:spPr>
          <a:xfrm>
            <a:off x="4186080" y="6092640"/>
            <a:ext cx="9216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888" name="Рисунок 2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58640" cy="399960"/>
          </a:xfrm>
          <a:prstGeom prst="rect">
            <a:avLst/>
          </a:prstGeom>
          <a:ln w="0">
            <a:noFill/>
          </a:ln>
        </p:spPr>
      </p:pic>
      <p:pic>
        <p:nvPicPr>
          <p:cNvPr id="889" name="Рисунок 1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31608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11280" y="114120"/>
            <a:ext cx="7826400" cy="58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Осуществление регистрации лекарственных средств</a:t>
            </a:r>
            <a:endParaRPr b="0" i="1" lang="en-US" sz="23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91" name="AutoShape 4"/>
          <p:cNvSpPr/>
          <p:nvPr/>
        </p:nvSpPr>
        <p:spPr>
          <a:xfrm>
            <a:off x="1187280" y="835200"/>
            <a:ext cx="6058080" cy="82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5"/>
          <p:cNvSpPr/>
          <p:nvPr/>
        </p:nvSpPr>
        <p:spPr>
          <a:xfrm>
            <a:off x="387360" y="976320"/>
            <a:ext cx="8561520" cy="4208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здравоохранения Республики Бела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6"/>
          <p:cNvSpPr/>
          <p:nvPr/>
        </p:nvSpPr>
        <p:spPr>
          <a:xfrm>
            <a:off x="1549440" y="1625760"/>
            <a:ext cx="7116840" cy="4600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экспертиз и испытаний в здравоохра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10"/>
          <p:cNvSpPr/>
          <p:nvPr/>
        </p:nvSpPr>
        <p:spPr>
          <a:xfrm>
            <a:off x="108000" y="2293920"/>
            <a:ext cx="4438440" cy="4874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е лекарственных средств (УЛ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5" name="Прямая со стрелкой 24"/>
          <p:cNvCxnSpPr/>
          <p:nvPr/>
        </p:nvCxnSpPr>
        <p:spPr>
          <a:xfrm>
            <a:off x="1907640" y="2085840"/>
            <a:ext cx="1080" cy="20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Прямая со стрелкой 28"/>
          <p:cNvCxnSpPr/>
          <p:nvPr/>
        </p:nvCxnSpPr>
        <p:spPr>
          <a:xfrm>
            <a:off x="8316720" y="2085840"/>
            <a:ext cx="1080" cy="20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Прямая со стрелкой 26"/>
          <p:cNvCxnSpPr/>
          <p:nvPr/>
        </p:nvCxnSpPr>
        <p:spPr>
          <a:xfrm>
            <a:off x="4642920" y="1396800"/>
            <a:ext cx="1080" cy="232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8" name="AutoShape 12"/>
          <p:cNvSpPr/>
          <p:nvPr/>
        </p:nvSpPr>
        <p:spPr>
          <a:xfrm>
            <a:off x="4721400" y="2293920"/>
            <a:ext cx="4392360" cy="48744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равление надлежащих фармацевтических практик (УНФ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0"/>
          <p:cNvSpPr/>
          <p:nvPr/>
        </p:nvSpPr>
        <p:spPr>
          <a:xfrm>
            <a:off x="77760" y="2943360"/>
            <a:ext cx="4138560" cy="66348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боратория фармакопейного и фармацевтического анализа (ЛФФ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0"/>
          <p:cNvSpPr/>
          <p:nvPr/>
        </p:nvSpPr>
        <p:spPr>
          <a:xfrm>
            <a:off x="5138640" y="2938320"/>
            <a:ext cx="3975120" cy="668520"/>
          </a:xfrm>
          <a:prstGeom prst="flowChartProcess">
            <a:avLst/>
          </a:prstGeom>
          <a:solidFill>
            <a:srgbClr val="4f81bd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спубликанская клинико-фармакологическая лаборатория (РКФЛ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Прямая со стрелкой 15"/>
          <p:cNvCxnSpPr>
            <a:stCxn id="899" idx="3"/>
            <a:endCxn id="900" idx="1"/>
          </p:cNvCxnSpPr>
          <p:nvPr/>
        </p:nvCxnSpPr>
        <p:spPr>
          <a:xfrm flipV="1">
            <a:off x="4216320" y="3270960"/>
            <a:ext cx="923040" cy="39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2" name="Прямая соединительная линия 10"/>
          <p:cNvSpPr/>
          <p:nvPr/>
        </p:nvSpPr>
        <p:spPr>
          <a:xfrm>
            <a:off x="4640400" y="2085840"/>
            <a:ext cx="2880" cy="1185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135000" y="3532320"/>
            <a:ext cx="4005360" cy="191268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Специализированная экспертиза фармацевтической части регистрационного дось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Апробация методик контроля качеств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</a:t>
            </a: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Подготовка к публикации и издание Государственной фармакопеи Республики Беларусь</a:t>
            </a: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Ведение электронной базы нормативных документов по контролю качеств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8"/>
          <p:cNvSpPr/>
          <p:nvPr/>
        </p:nvSpPr>
        <p:spPr>
          <a:xfrm>
            <a:off x="5237280" y="3498840"/>
            <a:ext cx="3778200" cy="1946160"/>
          </a:xfrm>
          <a:prstGeom prst="flowChartProcess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Специализированная экспертиза клинико-фармакологической части регистрационного досье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 Организация экспертизы документов для назначения и проведения клинических испытаний лекарственных средст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Фармаконадзор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- GCP </a:t>
            </a:r>
            <a:r>
              <a:rPr b="0" lang="ru-RU" sz="1300" spc="-1" strike="noStrike">
                <a:solidFill>
                  <a:srgbClr val="212121"/>
                </a:solidFill>
                <a:latin typeface="Calibri"/>
                <a:ea typeface="Times New Roman"/>
              </a:rPr>
              <a:t>инспекц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Рисунок 1" descr=""/>
          <p:cNvPicPr/>
          <p:nvPr/>
        </p:nvPicPr>
        <p:blipFill>
          <a:blip r:embed="rId1"/>
          <a:stretch/>
        </p:blipFill>
        <p:spPr>
          <a:xfrm>
            <a:off x="3486240" y="3006720"/>
            <a:ext cx="654120" cy="351000"/>
          </a:xfrm>
          <a:prstGeom prst="rect">
            <a:avLst/>
          </a:prstGeom>
          <a:ln w="0">
            <a:noFill/>
          </a:ln>
        </p:spPr>
      </p:pic>
      <p:pic>
        <p:nvPicPr>
          <p:cNvPr id="906" name="Рисунок 17" descr=""/>
          <p:cNvPicPr/>
          <p:nvPr/>
        </p:nvPicPr>
        <p:blipFill>
          <a:blip r:embed="rId2"/>
          <a:stretch/>
        </p:blipFill>
        <p:spPr>
          <a:xfrm>
            <a:off x="755640" y="987480"/>
            <a:ext cx="390600" cy="396720"/>
          </a:xfrm>
          <a:prstGeom prst="rect">
            <a:avLst/>
          </a:prstGeom>
          <a:ln w="0">
            <a:noFill/>
          </a:ln>
        </p:spPr>
      </p:pic>
      <p:pic>
        <p:nvPicPr>
          <p:cNvPr id="907" name="Рисунок 2" descr=""/>
          <p:cNvPicPr/>
          <p:nvPr/>
        </p:nvPicPr>
        <p:blipFill>
          <a:blip r:embed="rId3"/>
          <a:stretch/>
        </p:blipFill>
        <p:spPr>
          <a:xfrm>
            <a:off x="1619280" y="1590840"/>
            <a:ext cx="511200" cy="4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Скругленный прямоугольник 1"/>
          <p:cNvSpPr/>
          <p:nvPr/>
        </p:nvSpPr>
        <p:spPr>
          <a:xfrm>
            <a:off x="250920" y="1992240"/>
            <a:ext cx="4537080" cy="2084400"/>
          </a:xfrm>
          <a:prstGeom prst="roundRect">
            <a:avLst>
              <a:gd name="adj" fmla="val 16667"/>
            </a:avLst>
          </a:prstGeom>
          <a:solidFill>
            <a:srgbClr val="4f81bd">
              <a:alpha val="3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Комплекс предварительных технических работ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10" name="Скругленный прямоугольник 2"/>
          <p:cNvSpPr/>
          <p:nvPr/>
        </p:nvSpPr>
        <p:spPr>
          <a:xfrm>
            <a:off x="306360" y="2133720"/>
            <a:ext cx="2033640" cy="17301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Лекарственное средст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Скругленный прямоугольник 3"/>
          <p:cNvSpPr/>
          <p:nvPr/>
        </p:nvSpPr>
        <p:spPr>
          <a:xfrm>
            <a:off x="2532240" y="2197080"/>
            <a:ext cx="2135160" cy="368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Скругленный прямоугольник 4"/>
          <p:cNvSpPr/>
          <p:nvPr/>
        </p:nvSpPr>
        <p:spPr>
          <a:xfrm>
            <a:off x="2532240" y="2735280"/>
            <a:ext cx="2135160" cy="477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Скругленный прямоугольник 5"/>
          <p:cNvSpPr/>
          <p:nvPr/>
        </p:nvSpPr>
        <p:spPr>
          <a:xfrm>
            <a:off x="2532240" y="3402000"/>
            <a:ext cx="2135160" cy="387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фф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Скругленный прямоугольник 6"/>
          <p:cNvSpPr/>
          <p:nvPr/>
        </p:nvSpPr>
        <p:spPr>
          <a:xfrm>
            <a:off x="4484520" y="1047600"/>
            <a:ext cx="3759480" cy="6526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фармацевтических/фармакопей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Скругленный прямоугольник 7"/>
          <p:cNvSpPr/>
          <p:nvPr/>
        </p:nvSpPr>
        <p:spPr>
          <a:xfrm>
            <a:off x="5145120" y="1789200"/>
            <a:ext cx="3530520" cy="56016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робация методик контроля ка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Скругленный прямоугольник 8"/>
          <p:cNvSpPr/>
          <p:nvPr/>
        </p:nvSpPr>
        <p:spPr>
          <a:xfrm>
            <a:off x="5562720" y="2421000"/>
            <a:ext cx="3402000" cy="72072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доклинических/клинических (биоэквивалентных) испыт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Скругленный прямоугольник 9"/>
          <p:cNvSpPr/>
          <p:nvPr/>
        </p:nvSpPr>
        <p:spPr>
          <a:xfrm>
            <a:off x="5562720" y="3213000"/>
            <a:ext cx="3402000" cy="66060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биофармацевтически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Скругленный прямоугольник 10"/>
          <p:cNvSpPr/>
          <p:nvPr/>
        </p:nvSpPr>
        <p:spPr>
          <a:xfrm>
            <a:off x="5145120" y="3933720"/>
            <a:ext cx="3530520" cy="49392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инструкции по медицинскому примен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Скругленный прямоугольник 11"/>
          <p:cNvSpPr/>
          <p:nvPr/>
        </p:nvSpPr>
        <p:spPr>
          <a:xfrm>
            <a:off x="3651120" y="5732640"/>
            <a:ext cx="4089600" cy="28872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X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п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Скругленный прямоугольник 12"/>
          <p:cNvSpPr/>
          <p:nvPr/>
        </p:nvSpPr>
        <p:spPr>
          <a:xfrm>
            <a:off x="4700520" y="4508640"/>
            <a:ext cx="3759120" cy="50472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данных фармацевтической разрабо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Скругленный прямоугольник 13"/>
          <p:cNvSpPr/>
          <p:nvPr/>
        </p:nvSpPr>
        <p:spPr>
          <a:xfrm>
            <a:off x="4140360" y="5084640"/>
            <a:ext cx="4103640" cy="5590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пертная оценка данных по валидации процесса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AutoShape 17"/>
          <p:cNvSpPr/>
          <p:nvPr/>
        </p:nvSpPr>
        <p:spPr>
          <a:xfrm>
            <a:off x="5160960" y="1057320"/>
            <a:ext cx="1436760" cy="114120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7"/>
          <p:cNvSpPr/>
          <p:nvPr/>
        </p:nvSpPr>
        <p:spPr>
          <a:xfrm>
            <a:off x="4878360" y="1344600"/>
            <a:ext cx="1434960" cy="114300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17"/>
          <p:cNvSpPr/>
          <p:nvPr/>
        </p:nvSpPr>
        <p:spPr>
          <a:xfrm>
            <a:off x="4302000" y="1911240"/>
            <a:ext cx="1435320" cy="1141560"/>
          </a:xfrm>
          <a:prstGeom prst="flowChartMultidocumen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17"/>
          <p:cNvSpPr/>
          <p:nvPr/>
        </p:nvSpPr>
        <p:spPr>
          <a:xfrm>
            <a:off x="3865680" y="2311560"/>
            <a:ext cx="1434960" cy="1143000"/>
          </a:xfrm>
          <a:prstGeom prst="flowChartMultidocumen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17"/>
          <p:cNvSpPr/>
          <p:nvPr/>
        </p:nvSpPr>
        <p:spPr>
          <a:xfrm>
            <a:off x="3808440" y="2857680"/>
            <a:ext cx="1434960" cy="114300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17"/>
          <p:cNvSpPr/>
          <p:nvPr/>
        </p:nvSpPr>
        <p:spPr>
          <a:xfrm>
            <a:off x="3519360" y="3146400"/>
            <a:ext cx="1436760" cy="114156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17"/>
          <p:cNvSpPr/>
          <p:nvPr/>
        </p:nvSpPr>
        <p:spPr>
          <a:xfrm>
            <a:off x="3220920" y="3433680"/>
            <a:ext cx="1436760" cy="114156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Комплекс предварительных технических работ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1"/>
          <p:cNvSpPr/>
          <p:nvPr/>
        </p:nvSpPr>
        <p:spPr>
          <a:xfrm>
            <a:off x="5775480" y="280188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Arial"/>
              </a:rPr>
              <a:t>УСТРАНЕНИЕ ЗАЯВИТЕЛ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Arial"/>
              </a:rPr>
              <a:t>ЗАМЕЧАНИЙ ЭКСП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23"/>
          <p:cNvSpPr/>
          <p:nvPr/>
        </p:nvSpPr>
        <p:spPr>
          <a:xfrm rot="2400000">
            <a:off x="5590800" y="2397240"/>
            <a:ext cx="200160" cy="1050840"/>
          </a:xfrm>
          <a:custGeom>
            <a:avLst/>
            <a:gdLst>
              <a:gd name="textAreaLeft" fmla="*/ 0 w 200160"/>
              <a:gd name="textAreaRight" fmla="*/ 72360 w 200160"/>
              <a:gd name="textAreaTop" fmla="*/ 37800 h 1050840"/>
              <a:gd name="textAreaBottom" fmla="*/ 1013040 h 10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7"/>
                  <a:pt x="10800" y="2493"/>
                </a:cubicBezTo>
                <a:lnTo>
                  <a:pt x="10800" y="7562"/>
                </a:lnTo>
                <a:cubicBezTo>
                  <a:pt x="10800" y="8809"/>
                  <a:pt x="16200" y="10055"/>
                  <a:pt x="21600" y="10055"/>
                </a:cubicBezTo>
                <a:cubicBezTo>
                  <a:pt x="16200" y="10055"/>
                  <a:pt x="10800" y="11302"/>
                  <a:pt x="10800" y="12548"/>
                </a:cubicBezTo>
                <a:lnTo>
                  <a:pt x="10800" y="19107"/>
                </a:lnTo>
                <a:cubicBezTo>
                  <a:pt x="10800" y="2035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24"/>
          <p:cNvSpPr/>
          <p:nvPr/>
        </p:nvSpPr>
        <p:spPr>
          <a:xfrm rot="2700000">
            <a:off x="4770000" y="3474720"/>
            <a:ext cx="211320" cy="1538280"/>
          </a:xfrm>
          <a:custGeom>
            <a:avLst/>
            <a:gdLst>
              <a:gd name="textAreaLeft" fmla="*/ 0 w 211320"/>
              <a:gd name="textAreaRight" fmla="*/ 76320 w 211320"/>
              <a:gd name="textAreaTop" fmla="*/ 22320 h 1538280"/>
              <a:gd name="textAreaBottom" fmla="*/ 1515960 h 15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9"/>
                  <a:pt x="10800" y="1017"/>
                </a:cubicBezTo>
                <a:lnTo>
                  <a:pt x="10800" y="9038"/>
                </a:lnTo>
                <a:cubicBezTo>
                  <a:pt x="10800" y="9547"/>
                  <a:pt x="16200" y="10055"/>
                  <a:pt x="21600" y="10055"/>
                </a:cubicBezTo>
                <a:cubicBezTo>
                  <a:pt x="16200" y="10055"/>
                  <a:pt x="10800" y="10564"/>
                  <a:pt x="10800" y="11072"/>
                </a:cubicBezTo>
                <a:lnTo>
                  <a:pt x="10800" y="20583"/>
                </a:lnTo>
                <a:cubicBezTo>
                  <a:pt x="10800" y="2109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AutoShape 26" descr=""/>
          <p:cNvPicPr/>
          <p:nvPr/>
        </p:nvPicPr>
        <p:blipFill>
          <a:blip r:embed="rId1"/>
          <a:stretch/>
        </p:blipFill>
        <p:spPr>
          <a:xfrm>
            <a:off x="1231920" y="1395360"/>
            <a:ext cx="1395360" cy="1408320"/>
          </a:xfrm>
          <a:prstGeom prst="rect">
            <a:avLst/>
          </a:prstGeom>
          <a:ln w="0">
            <a:noFill/>
          </a:ln>
        </p:spPr>
      </p:pic>
      <p:sp>
        <p:nvSpPr>
          <p:cNvPr id="935" name="AutoShape 34"/>
          <p:cNvSpPr/>
          <p:nvPr/>
        </p:nvSpPr>
        <p:spPr>
          <a:xfrm rot="5400000">
            <a:off x="4471920" y="1312560"/>
            <a:ext cx="447480" cy="8537760"/>
          </a:xfrm>
          <a:custGeom>
            <a:avLst/>
            <a:gdLst>
              <a:gd name="textAreaLeft" fmla="*/ 0 w 447480"/>
              <a:gd name="textAreaRight" fmla="*/ 161640 w 447480"/>
              <a:gd name="textAreaTop" fmla="*/ 150120 h 8537760"/>
              <a:gd name="textAreaBottom" fmla="*/ 8387640 h 853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7"/>
                  <a:pt x="10800" y="1214"/>
                </a:cubicBezTo>
                <a:lnTo>
                  <a:pt x="10800" y="8841"/>
                </a:lnTo>
                <a:cubicBezTo>
                  <a:pt x="10800" y="9448"/>
                  <a:pt x="16200" y="10055"/>
                  <a:pt x="21600" y="10055"/>
                </a:cubicBezTo>
                <a:cubicBezTo>
                  <a:pt x="16200" y="10055"/>
                  <a:pt x="10800" y="10662"/>
                  <a:pt x="10800" y="11269"/>
                </a:cubicBezTo>
                <a:lnTo>
                  <a:pt x="10800" y="20386"/>
                </a:lnTo>
                <a:cubicBezTo>
                  <a:pt x="10800" y="2099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36"/>
          <p:cNvSpPr/>
          <p:nvPr/>
        </p:nvSpPr>
        <p:spPr>
          <a:xfrm>
            <a:off x="3708360" y="5775480"/>
            <a:ext cx="25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0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17"/>
          <p:cNvSpPr/>
          <p:nvPr/>
        </p:nvSpPr>
        <p:spPr>
          <a:xfrm>
            <a:off x="2933640" y="3720960"/>
            <a:ext cx="1435320" cy="1143000"/>
          </a:xfrm>
          <a:prstGeom prst="flowChartMultidocument">
            <a:avLst/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18"/>
          <p:cNvSpPr/>
          <p:nvPr/>
        </p:nvSpPr>
        <p:spPr>
          <a:xfrm>
            <a:off x="2492280" y="4287960"/>
            <a:ext cx="1436760" cy="1157040"/>
          </a:xfrm>
          <a:prstGeom prst="flowChartMultidocumen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25"/>
          <p:cNvSpPr/>
          <p:nvPr/>
        </p:nvSpPr>
        <p:spPr>
          <a:xfrm>
            <a:off x="3002040" y="391788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6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4010040" y="24876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4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25"/>
          <p:cNvSpPr/>
          <p:nvPr/>
        </p:nvSpPr>
        <p:spPr>
          <a:xfrm>
            <a:off x="4995720" y="155088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30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21"/>
          <p:cNvSpPr/>
          <p:nvPr/>
        </p:nvSpPr>
        <p:spPr>
          <a:xfrm>
            <a:off x="4024440" y="4981680"/>
            <a:ext cx="25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ПЕРВИЧНАЯ ЭКСПЕРТИЗА ДОКУ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21"/>
          <p:cNvSpPr/>
          <p:nvPr/>
        </p:nvSpPr>
        <p:spPr>
          <a:xfrm>
            <a:off x="4944960" y="407196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СПЕЦИАЛИЗИРОВАННАЯ ЭКСПЕРТ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21"/>
          <p:cNvSpPr/>
          <p:nvPr/>
        </p:nvSpPr>
        <p:spPr>
          <a:xfrm>
            <a:off x="6588000" y="1844640"/>
            <a:ext cx="247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ОКОНЧАТЕЛЬНАЯ СПЕЦИАЛИЗИРОВАННАЯ ЭКСПЕРТ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-36360" y="1428840"/>
            <a:ext cx="242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АПРОБАЦИЯ МЕТОДИК КОНТРОЛЯ КА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23"/>
          <p:cNvSpPr/>
          <p:nvPr/>
        </p:nvSpPr>
        <p:spPr>
          <a:xfrm rot="2400000">
            <a:off x="6391080" y="1719360"/>
            <a:ext cx="206280" cy="796680"/>
          </a:xfrm>
          <a:custGeom>
            <a:avLst/>
            <a:gdLst>
              <a:gd name="textAreaLeft" fmla="*/ 0 w 206280"/>
              <a:gd name="textAreaRight" fmla="*/ 74520 w 206280"/>
              <a:gd name="textAreaTop" fmla="*/ 38520 h 796680"/>
              <a:gd name="textAreaBottom" fmla="*/ 758160 h 79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78"/>
                  <a:pt x="10800" y="3356"/>
                </a:cubicBezTo>
                <a:lnTo>
                  <a:pt x="10800" y="6699"/>
                </a:lnTo>
                <a:cubicBezTo>
                  <a:pt x="10800" y="8377"/>
                  <a:pt x="16200" y="10055"/>
                  <a:pt x="21600" y="10055"/>
                </a:cubicBezTo>
                <a:cubicBezTo>
                  <a:pt x="16200" y="10055"/>
                  <a:pt x="10800" y="11733"/>
                  <a:pt x="10800" y="13411"/>
                </a:cubicBezTo>
                <a:lnTo>
                  <a:pt x="10800" y="18244"/>
                </a:lnTo>
                <a:cubicBezTo>
                  <a:pt x="10800" y="1992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7"/>
          <p:cNvSpPr/>
          <p:nvPr/>
        </p:nvSpPr>
        <p:spPr>
          <a:xfrm>
            <a:off x="2401920" y="1596960"/>
            <a:ext cx="1436760" cy="1141560"/>
          </a:xfrm>
          <a:prstGeom prst="flowChartMulti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7"/>
          <p:cNvSpPr/>
          <p:nvPr/>
        </p:nvSpPr>
        <p:spPr>
          <a:xfrm>
            <a:off x="2114640" y="1884240"/>
            <a:ext cx="1434960" cy="1143000"/>
          </a:xfrm>
          <a:prstGeom prst="flowChartMulti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17"/>
          <p:cNvSpPr/>
          <p:nvPr/>
        </p:nvSpPr>
        <p:spPr>
          <a:xfrm>
            <a:off x="1816200" y="2171880"/>
            <a:ext cx="1434960" cy="1143000"/>
          </a:xfrm>
          <a:prstGeom prst="flowChartMulti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7"/>
          <p:cNvSpPr/>
          <p:nvPr/>
        </p:nvSpPr>
        <p:spPr>
          <a:xfrm>
            <a:off x="1527120" y="2459160"/>
            <a:ext cx="1436760" cy="1143000"/>
          </a:xfrm>
          <a:prstGeom prst="flowChartMultidocumen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1562040" y="274320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Стрелка влево 57"/>
          <p:cNvSpPr/>
          <p:nvPr/>
        </p:nvSpPr>
        <p:spPr>
          <a:xfrm>
            <a:off x="3251160" y="2917800"/>
            <a:ext cx="474840" cy="22860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Стрелка влево 58"/>
          <p:cNvSpPr/>
          <p:nvPr/>
        </p:nvSpPr>
        <p:spPr>
          <a:xfrm>
            <a:off x="3941640" y="1689120"/>
            <a:ext cx="849600" cy="2271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9537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Стрелка углом 59"/>
          <p:cNvSpPr/>
          <p:nvPr/>
        </p:nvSpPr>
        <p:spPr>
          <a:xfrm>
            <a:off x="3400560" y="1197000"/>
            <a:ext cx="1619280" cy="353880"/>
          </a:xfrm>
          <a:custGeom>
            <a:avLst/>
            <a:gdLst/>
            <a:ahLst/>
            <a:rect l="l" t="t" r="r" b="b"/>
            <a:pathLst>
              <a:path w="1619250" h="354013">
                <a:moveTo>
                  <a:pt x="0" y="354013"/>
                </a:moveTo>
                <a:lnTo>
                  <a:pt x="0" y="199132"/>
                </a:lnTo>
                <a:cubicBezTo>
                  <a:pt x="0" y="113594"/>
                  <a:pt x="69343" y="44251"/>
                  <a:pt x="154881" y="44251"/>
                </a:cubicBezTo>
                <a:lnTo>
                  <a:pt x="1530747" y="44252"/>
                </a:lnTo>
                <a:lnTo>
                  <a:pt x="1530747" y="0"/>
                </a:lnTo>
                <a:lnTo>
                  <a:pt x="1619250" y="88503"/>
                </a:lnTo>
                <a:lnTo>
                  <a:pt x="1530747" y="177007"/>
                </a:lnTo>
                <a:lnTo>
                  <a:pt x="1530747" y="132755"/>
                </a:lnTo>
                <a:lnTo>
                  <a:pt x="154881" y="132755"/>
                </a:lnTo>
                <a:cubicBezTo>
                  <a:pt x="118222" y="132755"/>
                  <a:pt x="88504" y="162473"/>
                  <a:pt x="88504" y="199132"/>
                </a:cubicBezTo>
                <a:cubicBezTo>
                  <a:pt x="88504" y="250759"/>
                  <a:pt x="88503" y="302386"/>
                  <a:pt x="88503" y="354013"/>
                </a:cubicBezTo>
                <a:lnTo>
                  <a:pt x="0" y="35401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ая соединительная линия 71"/>
          <p:cNvSpPr/>
          <p:nvPr/>
        </p:nvSpPr>
        <p:spPr>
          <a:xfrm>
            <a:off x="6732720" y="1268280"/>
            <a:ext cx="2293920" cy="0"/>
          </a:xfrm>
          <a:prstGeom prst="line">
            <a:avLst/>
          </a:prstGeom>
          <a:ln w="1015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Прямая соединительная линия 73"/>
          <p:cNvSpPr/>
          <p:nvPr/>
        </p:nvSpPr>
        <p:spPr>
          <a:xfrm>
            <a:off x="9026640" y="1268280"/>
            <a:ext cx="0" cy="3516480"/>
          </a:xfrm>
          <a:prstGeom prst="line">
            <a:avLst/>
          </a:prstGeom>
          <a:ln cap="rnd" w="1015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Прямая со стрелкой 77"/>
          <p:cNvCxnSpPr/>
          <p:nvPr/>
        </p:nvCxnSpPr>
        <p:spPr>
          <a:xfrm flipH="1">
            <a:off x="8387640" y="4784400"/>
            <a:ext cx="639000" cy="1080"/>
          </a:xfrm>
          <a:prstGeom prst="straightConnector1">
            <a:avLst/>
          </a:prstGeom>
          <a:ln cap="rnd" w="101520">
            <a:solidFill>
              <a:srgbClr val="604a7b"/>
            </a:solidFill>
            <a:miter/>
            <a:tailEnd len="med" type="triangle" w="sm"/>
          </a:ln>
        </p:spPr>
      </p:cxnSp>
      <p:sp>
        <p:nvSpPr>
          <p:cNvPr id="958" name="Блок-схема: документ 80"/>
          <p:cNvSpPr/>
          <p:nvPr/>
        </p:nvSpPr>
        <p:spPr>
          <a:xfrm>
            <a:off x="7145280" y="4397400"/>
            <a:ext cx="1243080" cy="930240"/>
          </a:xfrm>
          <a:prstGeom prst="flowChartDocumen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7020000" y="53006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97d"/>
                </a:solidFill>
                <a:latin typeface="Arial"/>
              </a:rPr>
              <a:t>ЗАКЛЮ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5"/>
          <p:cNvSpPr/>
          <p:nvPr/>
        </p:nvSpPr>
        <p:spPr>
          <a:xfrm>
            <a:off x="7183440" y="44607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2"/>
          <p:cNvSpPr/>
          <p:nvPr/>
        </p:nvSpPr>
        <p:spPr>
          <a:xfrm>
            <a:off x="6307560" y="669960"/>
            <a:ext cx="27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*постановление МЗ РБ №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23"/>
          <p:cNvSpPr/>
          <p:nvPr/>
        </p:nvSpPr>
        <p:spPr>
          <a:xfrm rot="2400000">
            <a:off x="3819600" y="4915080"/>
            <a:ext cx="181080" cy="604800"/>
          </a:xfrm>
          <a:custGeom>
            <a:avLst/>
            <a:gdLst>
              <a:gd name="textAreaLeft" fmla="*/ 0 w 181080"/>
              <a:gd name="textAreaRight" fmla="*/ 65520 w 181080"/>
              <a:gd name="textAreaTop" fmla="*/ 33840 h 604800"/>
              <a:gd name="textAreaBottom" fmla="*/ 57096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3"/>
                  <a:pt x="10800" y="3866"/>
                </a:cubicBezTo>
                <a:lnTo>
                  <a:pt x="10800" y="6189"/>
                </a:lnTo>
                <a:cubicBezTo>
                  <a:pt x="10800" y="8122"/>
                  <a:pt x="16200" y="10055"/>
                  <a:pt x="21600" y="10055"/>
                </a:cubicBezTo>
                <a:cubicBezTo>
                  <a:pt x="16200" y="10055"/>
                  <a:pt x="10800" y="11988"/>
                  <a:pt x="10800" y="13921"/>
                </a:cubicBezTo>
                <a:lnTo>
                  <a:pt x="10800" y="17734"/>
                </a:lnTo>
                <a:cubicBezTo>
                  <a:pt x="10800" y="196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10" descr="MC900216690[1]"/>
          <p:cNvPicPr/>
          <p:nvPr/>
        </p:nvPicPr>
        <p:blipFill>
          <a:blip r:embed="rId2"/>
          <a:stretch/>
        </p:blipFill>
        <p:spPr>
          <a:xfrm>
            <a:off x="426960" y="1946160"/>
            <a:ext cx="82728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труктура реестра лекарственных средств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Объект 2" descr=""/>
          <p:cNvPicPr/>
          <p:nvPr/>
        </p:nvPicPr>
        <p:blipFill>
          <a:blip r:embed="rId1"/>
          <a:stretch/>
        </p:blipFill>
        <p:spPr>
          <a:xfrm>
            <a:off x="488880" y="1074600"/>
            <a:ext cx="8382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Заголовок 1"/>
          <p:cNvSpPr/>
          <p:nvPr/>
        </p:nvSpPr>
        <p:spPr>
          <a:xfrm>
            <a:off x="31680" y="152280"/>
            <a:ext cx="908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Государственная регистрация лекарственного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оугольник 1"/>
          <p:cNvSpPr/>
          <p:nvPr/>
        </p:nvSpPr>
        <p:spPr>
          <a:xfrm>
            <a:off x="324000" y="1092240"/>
            <a:ext cx="86407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цедура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знания соответствия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лекарственного средства предъявляемым к нему требованиям по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безопасности, эффективности и качеству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осуществляемая в целях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допуска к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промышленному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оизводству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еализации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и медицинскому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менению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лекарственного средства, производимого в Республике Беларусь, а также к реализации и медицинскому применению лекарственного средства, поступающего из-за ее пределов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Схема 2" descr=""/>
          <p:cNvPicPr/>
          <p:nvPr/>
        </p:nvPicPr>
        <p:blipFill>
          <a:blip r:embed="rId1"/>
          <a:stretch/>
        </p:blipFill>
        <p:spPr>
          <a:xfrm>
            <a:off x="3706920" y="2792520"/>
            <a:ext cx="5833800" cy="3309840"/>
          </a:xfrm>
          <a:prstGeom prst="rect">
            <a:avLst/>
          </a:prstGeom>
          <a:ln w="0">
            <a:noFill/>
          </a:ln>
        </p:spPr>
      </p:pic>
      <p:sp>
        <p:nvSpPr>
          <p:cNvPr id="805" name="Прямоугольник 3"/>
          <p:cNvSpPr/>
          <p:nvPr/>
        </p:nvSpPr>
        <p:spPr>
          <a:xfrm>
            <a:off x="285840" y="3780000"/>
            <a:ext cx="42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*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кон Республики Беларусь № 161-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«О лекарственных средствах»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5"/>
          <p:cNvSpPr/>
          <p:nvPr/>
        </p:nvSpPr>
        <p:spPr>
          <a:xfrm>
            <a:off x="324000" y="3780000"/>
            <a:ext cx="21031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9"/>
          <p:cNvSpPr/>
          <p:nvPr/>
        </p:nvSpPr>
        <p:spPr>
          <a:xfrm>
            <a:off x="6659640" y="4510080"/>
            <a:ext cx="0" cy="289080"/>
          </a:xfrm>
          <a:prstGeom prst="line">
            <a:avLst/>
          </a:prstGeom>
          <a:ln w="25560">
            <a:solidFill>
              <a:srgbClr val="4a7ebb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ая соединительная линия 11"/>
          <p:cNvSpPr/>
          <p:nvPr/>
        </p:nvSpPr>
        <p:spPr>
          <a:xfrm flipH="1">
            <a:off x="6443640" y="4799160"/>
            <a:ext cx="216000" cy="142560"/>
          </a:xfrm>
          <a:prstGeom prst="line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13"/>
          <p:cNvSpPr/>
          <p:nvPr/>
        </p:nvSpPr>
        <p:spPr>
          <a:xfrm>
            <a:off x="6659640" y="4799160"/>
            <a:ext cx="216000" cy="142560"/>
          </a:xfrm>
          <a:prstGeom prst="line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труктура реестра лекарственных средств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Диаграмма 2" descr=""/>
          <p:cNvPicPr/>
          <p:nvPr/>
        </p:nvPicPr>
        <p:blipFill>
          <a:blip r:embed="rId1"/>
          <a:stretch/>
        </p:blipFill>
        <p:spPr>
          <a:xfrm>
            <a:off x="-158760" y="785880"/>
            <a:ext cx="9353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Динамика регистрации лекарственных средств отечественного и зарубежного производства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0" y="0"/>
            <a:ext cx="7248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Диаграмма 2" descr=""/>
          <p:cNvPicPr/>
          <p:nvPr/>
        </p:nvPicPr>
        <p:blipFill>
          <a:blip r:embed="rId1"/>
          <a:stretch/>
        </p:blipFill>
        <p:spPr>
          <a:xfrm>
            <a:off x="633240" y="1433520"/>
            <a:ext cx="75898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бщий рынок ЕАЭС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Рисунок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927840" cy="4914720"/>
          </a:xfrm>
          <a:prstGeom prst="rect">
            <a:avLst/>
          </a:prstGeom>
          <a:ln w="0">
            <a:noFill/>
          </a:ln>
        </p:spPr>
      </p:pic>
      <p:sp>
        <p:nvSpPr>
          <p:cNvPr id="977" name="TextBox 2"/>
          <p:cNvSpPr/>
          <p:nvPr/>
        </p:nvSpPr>
        <p:spPr>
          <a:xfrm>
            <a:off x="6516720" y="54403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© Рождественский Д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Овал 4"/>
          <p:cNvSpPr/>
          <p:nvPr/>
        </p:nvSpPr>
        <p:spPr>
          <a:xfrm>
            <a:off x="3132000" y="4869000"/>
            <a:ext cx="1016280" cy="347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Овал 13"/>
          <p:cNvSpPr/>
          <p:nvPr/>
        </p:nvSpPr>
        <p:spPr>
          <a:xfrm>
            <a:off x="2340000" y="981000"/>
            <a:ext cx="1015920" cy="34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Овал 14"/>
          <p:cNvSpPr/>
          <p:nvPr/>
        </p:nvSpPr>
        <p:spPr>
          <a:xfrm>
            <a:off x="5148360" y="981000"/>
            <a:ext cx="1015920" cy="346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2840" y="189000"/>
            <a:ext cx="90568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Дальнейшее развитие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4"/>
          <p:cNvSpPr/>
          <p:nvPr/>
        </p:nvSpPr>
        <p:spPr>
          <a:xfrm>
            <a:off x="395280" y="1125360"/>
            <a:ext cx="835344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Техническое обеспечение процесса экспертизы для возможности работы с данными в формате электронного Общего технического документа (</a:t>
            </a:r>
            <a:r>
              <a:rPr b="0" i="1" lang="en-US" sz="1800" spc="-1" strike="noStrike">
                <a:solidFill>
                  <a:srgbClr val="254061"/>
                </a:solidFill>
                <a:latin typeface="Calibri"/>
              </a:rPr>
              <a:t>eCTD</a:t>
            </a: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Имплементация руководящих документов ЕАЭС в области регистрации лекарственных средств в национальное законодательство Республики Беларус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Организация работы по проведению экспертизы регистрационных досье для регистрации на общий рынок Е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Активное участие в разработке Фармакопеи Е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Дальнейшее участие в составе рабочей группы по формированию общих подходов по обращению лекарственных средств на территории государств – членов ЕАЭС по разработке документов 3 уров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Максимальный учет потребностей страны в безопасных, эффективных и качественных лекарственных средств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buClr>
                <a:srgbClr val="727c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2" descr=""/>
          <p:cNvPicPr/>
          <p:nvPr/>
        </p:nvPicPr>
        <p:blipFill>
          <a:blip r:embed="rId1"/>
          <a:stretch/>
        </p:blipFill>
        <p:spPr>
          <a:xfrm>
            <a:off x="5435640" y="2708280"/>
            <a:ext cx="2952720" cy="2558880"/>
          </a:xfrm>
          <a:prstGeom prst="rect">
            <a:avLst/>
          </a:prstGeom>
          <a:ln w="0">
            <a:noFill/>
          </a:ln>
        </p:spPr>
      </p:pic>
      <p:sp>
        <p:nvSpPr>
          <p:cNvPr id="985" name="Объект 1"/>
          <p:cNvSpPr/>
          <p:nvPr/>
        </p:nvSpPr>
        <p:spPr>
          <a:xfrm>
            <a:off x="722160" y="1938240"/>
            <a:ext cx="471348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Заголовок 1"/>
          <p:cNvSpPr/>
          <p:nvPr/>
        </p:nvSpPr>
        <p:spPr>
          <a:xfrm>
            <a:off x="31680" y="152280"/>
            <a:ext cx="908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Безопасность лекарственного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1"/>
          <p:cNvSpPr/>
          <p:nvPr/>
        </p:nvSpPr>
        <p:spPr>
          <a:xfrm>
            <a:off x="324000" y="1092240"/>
            <a:ext cx="864072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5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безопасность лекарственного средства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- положительная характеристика лекарственного средства, основанная на сравнительном анализе его эффективности и оценке риска причинения вреда жизни и здоровью человека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оугольник 3"/>
          <p:cNvSpPr/>
          <p:nvPr/>
        </p:nvSpPr>
        <p:spPr>
          <a:xfrm>
            <a:off x="539640" y="2467080"/>
            <a:ext cx="40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*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кон Республики Беларусь № 161-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«О лекарственных средствах»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5"/>
          <p:cNvSpPr/>
          <p:nvPr/>
        </p:nvSpPr>
        <p:spPr>
          <a:xfrm>
            <a:off x="468360" y="2467080"/>
            <a:ext cx="208584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10"/>
          <p:cNvSpPr/>
          <p:nvPr/>
        </p:nvSpPr>
        <p:spPr>
          <a:xfrm>
            <a:off x="684360" y="328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пасность лекарственных средств устанавливается в ходе  доклинических исследованиях на лабораторн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12"/>
          <p:cNvSpPr/>
          <p:nvPr/>
        </p:nvSpPr>
        <p:spPr>
          <a:xfrm>
            <a:off x="539640" y="393048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инические исследования лекарственных средств, в том числе с использованием лабораторных животных, проводятся с соблюдением требований Надлежащей лабораторной практики. Технический кодекс установившейся практики "Надлежащая лабораторная практика", утвержден постановлением Министерства здравоохранения Республики Беларусь от 28 марта 2008 г. №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Заголовок 1"/>
          <p:cNvSpPr/>
          <p:nvPr/>
        </p:nvSpPr>
        <p:spPr>
          <a:xfrm>
            <a:off x="31680" y="152280"/>
            <a:ext cx="908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Эффективность лекарственного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1"/>
          <p:cNvSpPr/>
          <p:nvPr/>
        </p:nvSpPr>
        <p:spPr>
          <a:xfrm>
            <a:off x="324000" y="1092240"/>
            <a:ext cx="864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25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ффективность лекарственного средства - характеристика степени положительного влияния лекарственного средства на предупреждение, течение или продолжительность заболевания, состояния, предотвращение беременности, восстановление нормальной жизнедеятельности организма человека и компенсацию его функциональных возможностей, нарушенных в результате заболевания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ая соединительная линия 5"/>
          <p:cNvSpPr/>
          <p:nvPr/>
        </p:nvSpPr>
        <p:spPr>
          <a:xfrm>
            <a:off x="324000" y="3141720"/>
            <a:ext cx="216036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10"/>
          <p:cNvSpPr/>
          <p:nvPr/>
        </p:nvSpPr>
        <p:spPr>
          <a:xfrm>
            <a:off x="324000" y="3789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лекарственных средств устанавливается в ходе  клинических испытаний на пациентах в государственных организациях здраво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12"/>
          <p:cNvSpPr/>
          <p:nvPr/>
        </p:nvSpPr>
        <p:spPr>
          <a:xfrm>
            <a:off x="468360" y="472428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нические испытания лекарственных средств проводятся с соблюдением требований Надлежащей клинической практики. Технический кодекс установившейся практики "Надлежащая клиническая практика", утвержден постановлением Министерства здравоохранения Республики Беларусь от 7 мая 2009 г. № 50 (в ред. от 06.06.20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3"/>
          <p:cNvSpPr/>
          <p:nvPr/>
        </p:nvSpPr>
        <p:spPr>
          <a:xfrm>
            <a:off x="250920" y="3081240"/>
            <a:ext cx="43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* </a:t>
            </a: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кон Республики Беларусь № 161-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«О лекарственных средствах»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Заголовок 1"/>
          <p:cNvSpPr/>
          <p:nvPr/>
        </p:nvSpPr>
        <p:spPr>
          <a:xfrm>
            <a:off x="-4680" y="254160"/>
            <a:ext cx="9080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Исследования биоэквивалентности лекарственного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оугольник 1"/>
          <p:cNvSpPr/>
          <p:nvPr/>
        </p:nvSpPr>
        <p:spPr>
          <a:xfrm>
            <a:off x="324000" y="1092240"/>
            <a:ext cx="864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25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ведения исследований биоэквивалентности - доказать эквивалентность генерического лекарственного средства оригинальному лекарственному средству по качеству, чтобы экстраполировать результаты доклинических испытаний и клинических исследований, проведенных в отношении оригинального лекарственного средства, на генерическое лекарственное сре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оугольник 10"/>
          <p:cNvSpPr/>
          <p:nvPr/>
        </p:nvSpPr>
        <p:spPr>
          <a:xfrm>
            <a:off x="324000" y="32479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лекарственных препарата, содержащих одинаковое количество действующего вещества, считаются биоэквивалентными, если они являются фармацевтически эквивалентными или фармацевтически альтернативными и их биодоступность (по скорости и степени) после применения в одинаковой молярной дозе укладывается в заранее установленные допустимые пределы. Указанные пределы устанавливаются для обеспечения сопоставимости биофармацевтических свойств лекарственной формы, в которой выпускаются лекарственные препараты in vivo (то есть сопоставимости их по эффективности и безопас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Заголовок 1"/>
          <p:cNvSpPr/>
          <p:nvPr/>
        </p:nvSpPr>
        <p:spPr>
          <a:xfrm>
            <a:off x="-4680" y="254160"/>
            <a:ext cx="9080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Исследования биоэквивалентности лекарственного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1"/>
          <p:cNvSpPr/>
          <p:nvPr/>
        </p:nvSpPr>
        <p:spPr>
          <a:xfrm>
            <a:off x="324000" y="109224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Для определения скорости и степени абсорбции в исследованиях биоэквивалентности обычно используется кривая "концентрация - время". Следующие фармакокинетические параметры и заранее установленные границы их допустимых отклонений позволяют судить о биоэквивалентности сравниваемых лекарственных препаратов путем оценки их сравнительной биодоступ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ощадь под кривой "концентрация - время" (AUC), отражающая величину экс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аксимальная концентрация вещества (Cmax) в крови, плазме или сыворотке (далее также - плазма, биожидк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ремя достижения максимальной концентрации в биожидкости (tma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и этом Cmax и tmax являются параметрами, на которые оказывает влияние скорость абсорбции действующего вещества из лекарственн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оугольник 1"/>
          <p:cNvSpPr/>
          <p:nvPr/>
        </p:nvSpPr>
        <p:spPr>
          <a:xfrm>
            <a:off x="250920" y="4786200"/>
            <a:ext cx="82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оэквивалентность невозможно подтвердить с помощью исследований биодоступности, проводятся фармакодинамические или клинически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Схема 6" descr=""/>
          <p:cNvPicPr/>
          <p:nvPr/>
        </p:nvPicPr>
        <p:blipFill>
          <a:blip r:embed="rId1"/>
          <a:stretch/>
        </p:blipFill>
        <p:spPr>
          <a:xfrm>
            <a:off x="42840" y="1481040"/>
            <a:ext cx="9107640" cy="4011840"/>
          </a:xfrm>
          <a:prstGeom prst="rect">
            <a:avLst/>
          </a:prstGeom>
          <a:ln w="0">
            <a:noFill/>
          </a:ln>
        </p:spPr>
      </p:pic>
      <p:sp>
        <p:nvSpPr>
          <p:cNvPr id="829" name="Скругленный прямоугольник 7"/>
          <p:cNvSpPr/>
          <p:nvPr/>
        </p:nvSpPr>
        <p:spPr>
          <a:xfrm>
            <a:off x="250920" y="4076640"/>
            <a:ext cx="1218960" cy="522360"/>
          </a:xfrm>
          <a:prstGeom prst="roundRect">
            <a:avLst>
              <a:gd name="adj" fmla="val 16667"/>
            </a:avLst>
          </a:prstGeom>
          <a:solidFill>
            <a:srgbClr val="c0504d">
              <a:alpha val="20000"/>
            </a:srgbClr>
          </a:solidFill>
          <a:ln w="25560">
            <a:solidFill>
              <a:srgbClr val="c0504d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Calibri"/>
              </a:rPr>
              <a:t>GL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Скругленный прямоугольник 16"/>
          <p:cNvSpPr/>
          <p:nvPr/>
        </p:nvSpPr>
        <p:spPr>
          <a:xfrm>
            <a:off x="1913040" y="4076640"/>
            <a:ext cx="1218960" cy="533520"/>
          </a:xfrm>
          <a:prstGeom prst="roundRect">
            <a:avLst>
              <a:gd name="adj" fmla="val 16667"/>
            </a:avLst>
          </a:prstGeom>
          <a:solidFill>
            <a:srgbClr val="bf7750">
              <a:alpha val="20000"/>
            </a:srgbClr>
          </a:solidFill>
          <a:ln w="25560">
            <a:solidFill>
              <a:srgbClr val="ca7342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Calibri"/>
              </a:rPr>
              <a:t>GC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Скругленный прямоугольник 17"/>
          <p:cNvSpPr/>
          <p:nvPr/>
        </p:nvSpPr>
        <p:spPr>
          <a:xfrm>
            <a:off x="3633840" y="1413000"/>
            <a:ext cx="2327400" cy="652320"/>
          </a:xfrm>
          <a:prstGeom prst="roundRect">
            <a:avLst>
              <a:gd name="adj" fmla="val 16667"/>
            </a:avLst>
          </a:prstGeom>
          <a:solidFill>
            <a:srgbClr val="c1a46b"/>
          </a:solidFill>
          <a:ln w="25560">
            <a:solidFill>
              <a:srgbClr val="c1a4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плекс предварительных технических рабо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Скругленный прямоугольник 18"/>
          <p:cNvSpPr/>
          <p:nvPr/>
        </p:nvSpPr>
        <p:spPr>
          <a:xfrm>
            <a:off x="5796000" y="4076640"/>
            <a:ext cx="1085760" cy="533520"/>
          </a:xfrm>
          <a:prstGeom prst="roundRect">
            <a:avLst>
              <a:gd name="adj" fmla="val 16667"/>
            </a:avLst>
          </a:prstGeom>
          <a:solidFill>
            <a:srgbClr val="b6ad56">
              <a:alpha val="20000"/>
            </a:srgbClr>
          </a:solidFill>
          <a:ln w="25560">
            <a:solidFill>
              <a:srgbClr val="b6ad56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Calibri"/>
              </a:rPr>
              <a:t>GM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Скругленный прямоугольник 19"/>
          <p:cNvSpPr/>
          <p:nvPr/>
        </p:nvSpPr>
        <p:spPr>
          <a:xfrm>
            <a:off x="7272360" y="4076640"/>
            <a:ext cx="1219320" cy="525600"/>
          </a:xfrm>
          <a:prstGeom prst="roundRect">
            <a:avLst>
              <a:gd name="adj" fmla="val 16667"/>
            </a:avLst>
          </a:prstGeom>
          <a:solidFill>
            <a:srgbClr val="90b05c">
              <a:alpha val="20000"/>
            </a:srgbClr>
          </a:solidFill>
          <a:ln w="25560">
            <a:solidFill>
              <a:srgbClr val="90b05c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f7f7f"/>
                </a:solidFill>
                <a:latin typeface="Calibri"/>
              </a:rPr>
              <a:t>GV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Скругленный прямоугольник 23"/>
          <p:cNvSpPr/>
          <p:nvPr/>
        </p:nvSpPr>
        <p:spPr>
          <a:xfrm>
            <a:off x="3487680" y="4076640"/>
            <a:ext cx="2021040" cy="533520"/>
          </a:xfrm>
          <a:prstGeom prst="roundRect">
            <a:avLst>
              <a:gd name="adj" fmla="val 16667"/>
            </a:avLst>
          </a:prstGeom>
          <a:solidFill>
            <a:srgbClr val="b89754"/>
          </a:solidFill>
          <a:ln w="25560">
            <a:solidFill>
              <a:srgbClr val="b897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НПА по регист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Скругленный прямоугольник 24"/>
          <p:cNvSpPr/>
          <p:nvPr/>
        </p:nvSpPr>
        <p:spPr>
          <a:xfrm>
            <a:off x="971640" y="2178000"/>
            <a:ext cx="1539720" cy="412920"/>
          </a:xfrm>
          <a:prstGeom prst="roundRect">
            <a:avLst>
              <a:gd name="adj" fmla="val 16667"/>
            </a:avLst>
          </a:prstGeom>
          <a:solidFill>
            <a:srgbClr val="bf7750">
              <a:alpha val="20000"/>
            </a:srgbClr>
          </a:solidFill>
          <a:ln w="9360">
            <a:solidFill>
              <a:srgbClr val="d2896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Аккредитация ба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Скругленный прямоугольник 25"/>
          <p:cNvSpPr/>
          <p:nvPr/>
        </p:nvSpPr>
        <p:spPr>
          <a:xfrm>
            <a:off x="1692360" y="1523880"/>
            <a:ext cx="1784160" cy="457200"/>
          </a:xfrm>
          <a:prstGeom prst="roundRect">
            <a:avLst>
              <a:gd name="adj" fmla="val 16667"/>
            </a:avLst>
          </a:prstGeom>
          <a:solidFill>
            <a:srgbClr val="bf7750">
              <a:alpha val="20000"/>
            </a:srgbClr>
          </a:solidFill>
          <a:ln w="9360">
            <a:solidFill>
              <a:srgbClr val="d2896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Оценка протоколов 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Скругленный прямоугольник 26"/>
          <p:cNvSpPr/>
          <p:nvPr/>
        </p:nvSpPr>
        <p:spPr>
          <a:xfrm>
            <a:off x="2700360" y="2178000"/>
            <a:ext cx="1552680" cy="412920"/>
          </a:xfrm>
          <a:prstGeom prst="roundRect">
            <a:avLst>
              <a:gd name="adj" fmla="val 16667"/>
            </a:avLst>
          </a:prstGeom>
          <a:solidFill>
            <a:srgbClr val="d28960"/>
          </a:solidFill>
          <a:ln w="9360">
            <a:solidFill>
              <a:srgbClr val="ca73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CP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спе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Скругленный прямоугольник 27"/>
          <p:cNvSpPr/>
          <p:nvPr/>
        </p:nvSpPr>
        <p:spPr>
          <a:xfrm>
            <a:off x="3476520" y="5300640"/>
            <a:ext cx="5640480" cy="504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сударственная фармакопея Республики 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Скругленный прямоугольник 28"/>
          <p:cNvSpPr/>
          <p:nvPr/>
        </p:nvSpPr>
        <p:spPr>
          <a:xfrm>
            <a:off x="5105520" y="2178000"/>
            <a:ext cx="1904760" cy="412920"/>
          </a:xfrm>
          <a:prstGeom prst="roundRect">
            <a:avLst>
              <a:gd name="adj" fmla="val 16667"/>
            </a:avLst>
          </a:prstGeom>
          <a:solidFill>
            <a:srgbClr val="c5be79"/>
          </a:solidFill>
          <a:ln w="25560">
            <a:solidFill>
              <a:srgbClr val="c5b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MP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нспек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Скругленный прямоугольник 29"/>
          <p:cNvSpPr/>
          <p:nvPr/>
        </p:nvSpPr>
        <p:spPr>
          <a:xfrm>
            <a:off x="5508720" y="4743360"/>
            <a:ext cx="3603600" cy="414360"/>
          </a:xfrm>
          <a:prstGeom prst="roundRect">
            <a:avLst>
              <a:gd name="adj" fmla="val 16667"/>
            </a:avLst>
          </a:prstGeom>
          <a:solidFill>
            <a:srgbClr val="90b05c">
              <a:alpha val="20000"/>
            </a:srgbClr>
          </a:solidFill>
          <a:ln w="25560">
            <a:solidFill>
              <a:srgbClr val="90b05c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7f7f7f"/>
                </a:solidFill>
                <a:latin typeface="Calibri"/>
              </a:rPr>
              <a:t>НПА по контролю кач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Скругленный прямоугольник 30"/>
          <p:cNvSpPr/>
          <p:nvPr/>
        </p:nvSpPr>
        <p:spPr>
          <a:xfrm>
            <a:off x="6127920" y="1149480"/>
            <a:ext cx="2941560" cy="838080"/>
          </a:xfrm>
          <a:prstGeom prst="roundRect">
            <a:avLst>
              <a:gd name="adj" fmla="val 16667"/>
            </a:avLst>
          </a:prstGeom>
          <a:solidFill>
            <a:srgbClr val="a7c17d">
              <a:alpha val="20000"/>
            </a:srgbClr>
          </a:solidFill>
          <a:ln w="25560">
            <a:solidFill>
              <a:srgbClr val="a7c17d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Инспектирование системы ФН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Контроль внедрения законодательства по ФН</a:t>
            </a:r>
            <a:r>
              <a:rPr b="0" lang="en-US" sz="1500" spc="-1" strike="noStrike">
                <a:solidFill>
                  <a:srgbClr val="7f7f7f"/>
                </a:solidFill>
                <a:latin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ПУР</a:t>
            </a:r>
            <a:r>
              <a:rPr b="0" lang="en-US" sz="15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ПО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Скругленный прямоугольник 31"/>
          <p:cNvSpPr/>
          <p:nvPr/>
        </p:nvSpPr>
        <p:spPr>
          <a:xfrm>
            <a:off x="7532640" y="2176560"/>
            <a:ext cx="1523880" cy="622080"/>
          </a:xfrm>
          <a:prstGeom prst="roundRect">
            <a:avLst>
              <a:gd name="adj" fmla="val 16667"/>
            </a:avLst>
          </a:prstGeom>
          <a:solidFill>
            <a:srgbClr val="a7c17d">
              <a:alpha val="20000"/>
            </a:srgbClr>
          </a:solidFill>
          <a:ln w="25560">
            <a:solidFill>
              <a:srgbClr val="a7c17d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f7f7f"/>
                </a:solidFill>
                <a:latin typeface="Calibri"/>
              </a:rPr>
              <a:t>Система контроля кач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Скругленная соединительная линия 60"/>
          <p:cNvCxnSpPr/>
          <p:nvPr/>
        </p:nvCxnSpPr>
        <p:spPr>
          <a:xfrm flipH="1" rot="16200000">
            <a:off x="1860480" y="2521440"/>
            <a:ext cx="457920" cy="554760"/>
          </a:xfrm>
          <a:prstGeom prst="curvedConnector2">
            <a:avLst/>
          </a:prstGeom>
          <a:ln w="9360">
            <a:solidFill>
              <a:srgbClr val="d28960">
                <a:alpha val="20000"/>
              </a:srgbClr>
            </a:solidFill>
            <a:miter/>
            <a:tailEnd len="med" type="triangle" w="med"/>
          </a:ln>
        </p:spPr>
      </p:cxnSp>
      <p:cxnSp>
        <p:nvCxnSpPr>
          <p:cNvPr id="844" name="Скругленная соединительная линия 62"/>
          <p:cNvCxnSpPr>
            <a:stCxn id="837" idx="2"/>
          </p:cNvCxnSpPr>
          <p:nvPr/>
        </p:nvCxnSpPr>
        <p:spPr>
          <a:xfrm rot="5400000">
            <a:off x="2990880" y="2542320"/>
            <a:ext cx="437040" cy="533880"/>
          </a:xfrm>
          <a:prstGeom prst="curvedConnector2">
            <a:avLst/>
          </a:prstGeom>
          <a:ln w="9360">
            <a:solidFill>
              <a:srgbClr val="d28960">
                <a:alpha val="20000"/>
              </a:srgbClr>
            </a:solidFill>
            <a:miter/>
            <a:tailEnd len="med" type="triangle" w="med"/>
          </a:ln>
        </p:spPr>
      </p:cxnSp>
      <p:cxnSp>
        <p:nvCxnSpPr>
          <p:cNvPr id="845" name="Скругленная соединительная линия 1024"/>
          <p:cNvCxnSpPr>
            <a:stCxn id="836" idx="2"/>
          </p:cNvCxnSpPr>
          <p:nvPr/>
        </p:nvCxnSpPr>
        <p:spPr>
          <a:xfrm flipH="1" rot="16200000">
            <a:off x="2048760" y="2516040"/>
            <a:ext cx="1073520" cy="2160"/>
          </a:xfrm>
          <a:prstGeom prst="curvedConnector5">
            <a:avLst>
              <a:gd name="adj1" fmla="val 49983"/>
              <a:gd name="adj2" fmla="val 40000"/>
              <a:gd name="adj3" fmla="val 49983"/>
            </a:avLst>
          </a:prstGeom>
          <a:ln w="9360">
            <a:solidFill>
              <a:srgbClr val="d28960">
                <a:alpha val="20000"/>
              </a:srgbClr>
            </a:solidFill>
            <a:miter/>
            <a:tailEnd len="med" type="triangle" w="med"/>
          </a:ln>
        </p:spPr>
      </p:cxnSp>
      <p:cxnSp>
        <p:nvCxnSpPr>
          <p:cNvPr id="846" name="Скругленная соединительная линия 1027"/>
          <p:cNvCxnSpPr/>
          <p:nvPr/>
        </p:nvCxnSpPr>
        <p:spPr>
          <a:xfrm rot="5400000">
            <a:off x="4145400" y="2330640"/>
            <a:ext cx="989280" cy="457920"/>
          </a:xfrm>
          <a:prstGeom prst="curvedConnector5">
            <a:avLst>
              <a:gd name="adj1" fmla="val 49981"/>
              <a:gd name="adj2" fmla="val 49960"/>
              <a:gd name="adj3" fmla="val 49981"/>
            </a:avLst>
          </a:prstGeom>
          <a:ln w="9360">
            <a:solidFill>
              <a:srgbClr val="b89754"/>
            </a:solidFill>
            <a:miter/>
            <a:tailEnd len="med" type="triangle" w="med"/>
          </a:ln>
        </p:spPr>
      </p:cxnSp>
      <p:cxnSp>
        <p:nvCxnSpPr>
          <p:cNvPr id="847" name="Скругленная соединительная линия 1029"/>
          <p:cNvCxnSpPr>
            <a:stCxn id="839" idx="2"/>
          </p:cNvCxnSpPr>
          <p:nvPr/>
        </p:nvCxnSpPr>
        <p:spPr>
          <a:xfrm flipH="1" rot="16200000">
            <a:off x="6000840" y="2647800"/>
            <a:ext cx="457920" cy="343440"/>
          </a:xfrm>
          <a:prstGeom prst="curvedConnector5">
            <a:avLst>
              <a:gd name="adj1" fmla="val 49960"/>
              <a:gd name="adj2" fmla="val 49947"/>
              <a:gd name="adj3" fmla="val 49960"/>
            </a:avLst>
          </a:prstGeom>
          <a:ln w="9360">
            <a:solidFill>
              <a:srgbClr val="c5be79">
                <a:alpha val="20000"/>
              </a:srgbClr>
            </a:solidFill>
            <a:miter/>
            <a:tailEnd len="med" type="triangle" w="med"/>
          </a:ln>
        </p:spPr>
      </p:cxnSp>
      <p:cxnSp>
        <p:nvCxnSpPr>
          <p:cNvPr id="848" name="Скругленная соединительная линия 1031"/>
          <p:cNvCxnSpPr>
            <a:stCxn id="842" idx="2"/>
          </p:cNvCxnSpPr>
          <p:nvPr/>
        </p:nvCxnSpPr>
        <p:spPr>
          <a:xfrm flipH="1" rot="16200000">
            <a:off x="8268480" y="2823840"/>
            <a:ext cx="248400" cy="19764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9360">
            <a:solidFill>
              <a:srgbClr val="90b05c">
                <a:alpha val="20000"/>
              </a:srgbClr>
            </a:solidFill>
            <a:miter/>
            <a:tailEnd len="med" type="triangle" w="med"/>
          </a:ln>
        </p:spPr>
      </p:cxnSp>
      <p:cxnSp>
        <p:nvCxnSpPr>
          <p:cNvPr id="849" name="Скругленная соединительная линия 1033"/>
          <p:cNvCxnSpPr/>
          <p:nvPr/>
        </p:nvCxnSpPr>
        <p:spPr>
          <a:xfrm flipH="1" rot="16200000">
            <a:off x="6775200" y="2275560"/>
            <a:ext cx="1061280" cy="48492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9360">
            <a:solidFill>
              <a:srgbClr val="90b05c">
                <a:alpha val="20000"/>
              </a:srgbClr>
            </a:solidFill>
            <a:miter/>
            <a:tailEnd len="med" type="triangle" w="med"/>
          </a:ln>
        </p:spPr>
      </p:cxnSp>
      <p:sp>
        <p:nvSpPr>
          <p:cNvPr id="850" name="Заголовок 1"/>
          <p:cNvSpPr/>
          <p:nvPr/>
        </p:nvSpPr>
        <p:spPr>
          <a:xfrm>
            <a:off x="31680" y="152280"/>
            <a:ext cx="9080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истема обеспечения безопасности, эффективности и качества лекарственных средст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1" name="Скругленная соединительная линия 65"/>
          <p:cNvCxnSpPr>
            <a:stCxn id="839" idx="1"/>
          </p:cNvCxnSpPr>
          <p:nvPr/>
        </p:nvCxnSpPr>
        <p:spPr>
          <a:xfrm flipV="1" rot="10800000">
            <a:off x="4739400" y="2383200"/>
            <a:ext cx="366120" cy="662760"/>
          </a:xfrm>
          <a:prstGeom prst="curvedConnector2">
            <a:avLst/>
          </a:prstGeom>
          <a:ln w="9360">
            <a:solidFill>
              <a:srgbClr val="c1a46b"/>
            </a:solidFill>
            <a:prstDash val="dash"/>
            <a:miter/>
            <a:tailEnd len="med" type="triangle" w="med"/>
          </a:ln>
        </p:spPr>
      </p:cxnSp>
      <p:cxnSp>
        <p:nvCxnSpPr>
          <p:cNvPr id="852" name="Скругленная соединительная линия 75"/>
          <p:cNvCxnSpPr/>
          <p:nvPr/>
        </p:nvCxnSpPr>
        <p:spPr>
          <a:xfrm flipH="1" rot="16200000">
            <a:off x="3654360" y="2529360"/>
            <a:ext cx="457920" cy="554760"/>
          </a:xfrm>
          <a:prstGeom prst="curvedConnector2">
            <a:avLst/>
          </a:prstGeom>
          <a:ln w="9360">
            <a:solidFill>
              <a:srgbClr val="d2896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сновные законодательные акты регламентирующие государственную регистрацию лекарственных средств</a:t>
            </a:r>
            <a:endParaRPr b="0" i="1" lang="en-US" sz="2500" spc="-1" strike="noStrike">
              <a:solidFill>
                <a:srgbClr val="0033cc"/>
              </a:solidFill>
              <a:latin typeface="Calibri"/>
            </a:endParaRPr>
          </a:p>
        </p:txBody>
      </p:sp>
      <p:pic>
        <p:nvPicPr>
          <p:cNvPr id="854" name="Схема 4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7053480" cy="5480280"/>
          </a:xfrm>
          <a:prstGeom prst="rect">
            <a:avLst/>
          </a:prstGeom>
          <a:ln w="0">
            <a:noFill/>
          </a:ln>
        </p:spPr>
      </p:pic>
      <p:sp>
        <p:nvSpPr>
          <p:cNvPr id="855" name="Прямоугольник 5"/>
          <p:cNvSpPr/>
          <p:nvPr/>
        </p:nvSpPr>
        <p:spPr>
          <a:xfrm>
            <a:off x="1763640" y="1306440"/>
            <a:ext cx="734544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Беларусь № 433-З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сновах административных процед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Беларусь № 161-З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лекарственных сред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6"/>
          <p:cNvSpPr/>
          <p:nvPr/>
        </p:nvSpPr>
        <p:spPr>
          <a:xfrm>
            <a:off x="2397240" y="1989000"/>
            <a:ext cx="67118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нов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а Минист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и Беларусь от 01.04.2015 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государственной регистр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тверждении государственной регистрации) лекарственных средств и фармацевтических субстанций и внесении изменений и дополнений в постановление Совета Министров Республики Беларусь от 2 сентября 2008 г. № 1269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новление Совета Минист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Беларусь от 17 февраля 2012 г. 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утверждении единого перечня административных процеду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существляемых государственными органами и иными организациями в отношении юридических лиц и индивидуальных предпринимателей, внесении дополнения в постановление Совета Министров Республики Беларусь от 14 февраля 2009 г. № 193 и признании утратившими силу некоторых постановлений Совета Министров Республики Белару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Прямоугольник 7"/>
          <p:cNvSpPr/>
          <p:nvPr/>
        </p:nvSpPr>
        <p:spPr>
          <a:xfrm>
            <a:off x="3227400" y="4005360"/>
            <a:ext cx="588168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новление Министерства здравоохра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и Беларусь от 23.04.2015 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некоторых мерах по реализации постановления Совета Минист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и Беларусь от 1 апреля 2015 г. № 25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ановление Министерства здравоохран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и Беларусь от 08.05.2009 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 требованиях к докум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ставляемым для государственной регистрации (подтверждения государственной регистрации) лекарственных средств, государственной регистрации фармацевтических субстанций, внесения изменений в регистрационное досье на лекарственные средства, фармацевтические субстанции, ранее зарегистрированные в Республике Белару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Прямоугольник 9"/>
          <p:cNvSpPr/>
          <p:nvPr/>
        </p:nvSpPr>
        <p:spPr>
          <a:xfrm>
            <a:off x="4211640" y="5950080"/>
            <a:ext cx="45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ая фармакопея Республики Белару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КП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2200" y="9360"/>
            <a:ext cx="908028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Закон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 Республики Беларусь № 161-З «</a:t>
            </a: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О лекарственных средствах</a:t>
            </a:r>
            <a:r>
              <a:rPr b="0" i="1" lang="ru-RU" sz="2800" spc="-1" strike="noStrike">
                <a:solidFill>
                  <a:srgbClr val="0033cc"/>
                </a:solidFill>
                <a:latin typeface="Calibri"/>
              </a:rPr>
              <a:t>»</a:t>
            </a:r>
            <a:endParaRPr b="0" i="1" lang="en-US" sz="2800" spc="-1" strike="noStrike">
              <a:solidFill>
                <a:srgbClr val="0033cc"/>
              </a:solidFill>
              <a:latin typeface="Calibri"/>
            </a:endParaRPr>
          </a:p>
        </p:txBody>
      </p:sp>
      <p:sp>
        <p:nvSpPr>
          <p:cNvPr id="860" name="Прямоугольник 5"/>
          <p:cNvSpPr/>
          <p:nvPr/>
        </p:nvSpPr>
        <p:spPr>
          <a:xfrm>
            <a:off x="179280" y="1306440"/>
            <a:ext cx="89298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тья 8. Государственная регистрация (подтверждение государственной регистрации) лекарственны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екарственные средства могут производиться, реализовываться и применяться на территории Республики Беларусь после государственной регистрации (подтверждения государственной регист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Государственную регистрацию (подтверждение государственной регистрации) лекарственных средств осуществляет Министерство здравоохранения Республики Бела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результатам осуществления государственной регистрации (подтверждения государственной регистрации) лекарственного средства выдается регистрационное удостоверение, а сведения о зарегистрированном лекарственном средстве включаются в Государственный реестр лекарственных средств Республики Белар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6:56:23Z</dcterms:created>
  <dc:creator>Seda Mkhitaryan</dc:creator>
  <dc:description/>
  <dc:language>en-US</dc:language>
  <cp:lastModifiedBy>Тумеля </cp:lastModifiedBy>
  <cp:lastPrinted>2019-03-14T06:40:41Z</cp:lastPrinted>
  <dcterms:modified xsi:type="dcterms:W3CDTF">2019-03-14T11:40:53Z</dcterms:modified>
  <cp:revision>374</cp:revision>
  <dc:subject/>
  <dc:title>PowerPoint Presentation</dc:title>
</cp:coreProperties>
</file>