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836640" y="4427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B8BF-19CB-4E41-B472-3A3F2E658D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6640" y="44276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CA8F-CA93-45B5-AB48-AC876DDA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C57B2-9007-4D4C-B3A0-76DDADE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008B-5119-4CB7-A525-B3650848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1EE4-DD38-4261-990E-1A02B923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638D-8A4D-4850-9719-5DFA4CB0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78AC-4FEF-41D9-9379-5058FAA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F88A-76CA-4B4F-9916-F7395985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9F10-4D15-4C4B-8509-B008F8D7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C41-461C-4B4E-9F70-63B3A18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80AB-398E-44A0-9C9B-F54829F1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0DFA-6877-4B7C-B9FD-E28DB64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7199-E733-4175-B9A9-4BE4665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10D2-D17B-4393-B378-622F495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56B0-5182-49A0-BBCE-8ED9D5C5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ADD3-364E-40D4-9705-1ECC0FE8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5E05-DB3E-4650-825F-C6F02B9F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AA64-85F9-4242-9BA1-1B31B813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F030-A183-4093-9A59-8050B81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2F908-4F34-4346-8E79-A3A0113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15FB-0F3F-486B-B16E-483C5DD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CE48-3A22-4BF1-B8A8-9340957C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AB92-329C-49AE-AFBC-0D35930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F9580-3BF5-4A0A-8B76-E0409D9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0A68-28B4-4202-9963-EC5ECFD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155-E249-4F41-B6C3-1309E7924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5B0-1589-4611-AEDF-B20D2A600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5280" y="1699920"/>
            <a:ext cx="69483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работка новых лекарственных средств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а предприятии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ОО «Фармтехнология»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35640" y="4437000"/>
            <a:ext cx="3282840" cy="196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47640" y="4581360"/>
            <a:ext cx="2953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Козлов В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6756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Стратегический приоритет  предприятия «Фармтехнология» - обновление и динамичное развитие ассортимента лекарственных сред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19280" y="765000"/>
            <a:ext cx="6048360" cy="7192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ор ООО «Фармтехно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2060640"/>
            <a:ext cx="6120000" cy="100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чаль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о-исследовательского от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573360"/>
            <a:ext cx="3816360" cy="12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ко-анали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я (Ф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3573360"/>
            <a:ext cx="3673440" cy="129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бора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цев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ологии (ЛФ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2"/>
          </p:cNvCxnSpPr>
          <p:nvPr/>
        </p:nvCxnSpPr>
        <p:spPr>
          <a:xfrm>
            <a:off x="4642920" y="1483920"/>
            <a:ext cx="1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3" idx="2"/>
            <a:endCxn id="144" idx="0"/>
          </p:cNvCxnSpPr>
          <p:nvPr/>
        </p:nvCxnSpPr>
        <p:spPr>
          <a:xfrm flipH="1">
            <a:off x="2592000" y="3068640"/>
            <a:ext cx="20167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2"/>
            <a:endCxn id="145" idx="0"/>
          </p:cNvCxnSpPr>
          <p:nvPr/>
        </p:nvCxnSpPr>
        <p:spPr>
          <a:xfrm>
            <a:off x="4608000" y="3068640"/>
            <a:ext cx="208836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700360" y="5084640"/>
            <a:ext cx="395928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ники 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2"/>
            <a:endCxn id="149" idx="0"/>
          </p:cNvCxnSpPr>
          <p:nvPr/>
        </p:nvCxnSpPr>
        <p:spPr>
          <a:xfrm>
            <a:off x="4608000" y="3068640"/>
            <a:ext cx="7236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1944720" cy="12495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ие совместно с отделом маркетинга и продаж предприятия в определении стратегии производства и выпуска новых генерических лекарственных средств (ЛС),  согласование ежегодного плана разработки новых препар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остава и технологии производства новых генерических  ЛС, результаты которой  отражаются в описании технологического процесса (блок-схема, аппаратурное оформление технологии с пояснительной записк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аботка  опытных образцов и образцов опытно-промышленных серий разрабатываемых Л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дение исследований по тесту сравнительной кинетики растворения (ТСКР) для опытных образцов (на этапе разработки) и образцов опытно-промышленных серий (на этапе государственной регистрации) новых ЛС, планируемых к производству и выпус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программ (протоколов) исследований по ТСКР, биоэквивалентных испытаний (БЭИ) и (при необходимости) по до – и пострегистрационным клиническим испытаниям (КИ) Л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48360" y="522936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и валидация аналитических методик определения концентрации лекарственных средств в рамках  проведения исследований по ТСКР (модельные среды) и/или их метаболитов в рамках  проведения аналитического этапа БЭ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19700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ладка на хранение и изучение стабильности опытных образцов и образцов опытно-промышленных серий ЛС по физико-химическим показателям с подготовкой итоговых от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и валидация методик химического анализа разрабатываемых ЛС с целью подготовки проектов ФСП, пояснительных записок и приложений к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аботка методик определения сопутствующих примесей готовых лекарственных форм ранее разработанных и поставленных на производство лекарственных средств с целью подготовки их к государственной перереги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стно с отделом управления качеством участие в проведении перспективной валидации технологического процесса производства новых генерических Л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проектов инструкций по медицинскому применению и листков-вкладышей на разработанные ЛС, а также литературного обзора об опыте клинического применения препаратов-аналогов,  с последующей их передачей вместе с проектами ФСП, пояснительными записками и приложениями к ним, валидационными отчетами, отчетами по стабильности, по ТСКР и БЭИ в ОКК предприятия для проведения работ по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ормированию итоговых регистрационных дось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их представления на государственную регист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052640"/>
            <a:ext cx="8050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оговое регистрационное досье на ЛС рассматривается постоянно действующей комиссие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регистрации лекарствен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799164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лучае положительного решения комиссии, досье передае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 «Центр экспертиз и испытаний в здравоохранен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948360" y="5157720"/>
            <a:ext cx="1944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 научно-исследовательского от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ое обеспечение и контроль за проведением БЭИ и КИ ЛС в соответствии с действующими требованиями ТКП 184-2009 (02040) и ГФР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проведением исследований в рамках качественной лабораторной практик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в соответствии с требованиями ТКП 1255-2008 «Надлежащая лабораторная практи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7905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четом приведенных положений считаем, что действующая на предприятии система разработки новых лекарственных средств способна обеспечить динамичное развитие производства и решение задач поставленных перед фармацевтической промышленностью Республики Белару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приятие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ОО «Фармтехнология»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здано в 1991 год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енность сотрудников составляет 375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 качества - 7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ный производственный ци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изводственные площади занимают более 10 тысяч квадратных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04000" y="515772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247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«Фармацевтическая промышленность в Беларуси в 2011-2015 годах должна получить приоритетное развитие и стать одной из стратегических отраслей. За счет качества и эффективности доля отечественных препаратов на внутреннем рынке должна превысить 50% с сегодняшних 25%»,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заявил Президент Беларуси А.Г.Лукашенко, выступая на четвертом Всебелорусском народном собр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5040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ятием разработаны и используются технологии производ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вердых лекарственных форм (таблетки, капсулы, порошки для приготовления растворов и суспензий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дких лекарственных форм (назальные капли и спреи, сиропы, суспензии, растворы, эмульсии, настойки, спреи для наружного применен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гких лекарственных форм (мази, гели, крема, шампуни и линимен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77080" y="530064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64000" y="4311720"/>
            <a:ext cx="159372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ок специализированных пластиковых изделий медицинского назначения, выпускает более 20 видов различных медицинских флаконов, бутылок, банок, дозирующих стаканчиков, крышек, пробок, форсунок и други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асток по производству очищенной воды, оснащен современным оборудованием в соответствии с международными станда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ственная номенклатура составляет более 150 наименований лекарственных препа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параты для лечения заболеваний дыхательных пу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рофилактики и лечения гриппа и простудных заболев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лечения заболеваний нос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матологические сред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04000" y="5157720"/>
            <a:ext cx="1944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632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микробные препараты для системного применения в педиатрической практи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воспалитель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тивовирус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диологиче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Более 40 препаратов входят в «Перечень основных      лекарственных средст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04000" y="5229360"/>
            <a:ext cx="194472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редприятии постоянно провод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уровня научного обеспечения производства и разработки новых лекарственных средст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оснащение существующих и создание новых технологических линий, внедрение новых технолог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ышение уровня знаний работ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04000" y="5229360"/>
            <a:ext cx="194472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сновное направление работы – производство качественных гене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лекарственное средство, обладающее доказанной терапевтической взаимозаменяемостью с оригинальным препаратом аналогичного состава, выпуск которого осуществляется другим производителем, но не разработчиком лекарства-ориги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держит одно и то же лекарственное вещество в одинаковой дозе и в той же лекарственной форме, что и оригинальное Л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948360" y="5300640"/>
            <a:ext cx="1944720" cy="132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333360"/>
            <a:ext cx="8209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ычно генерик допускается в обращение после истечения срока патента или других эксклюзивных прав на оригинальный препа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ычно регистрация генерика осуществляется на основании регистрационного досье сокращенного объема и данных по биоэквивал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уск генерика можно наладить за более короткое время и с наименьшими материальными затра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вый генерик позволяет достаточно быстро и сравнительно дешево расширить возможности современного медикаментозного ле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2:52:02Z</dcterms:created>
  <dc:creator>Kozlov V.G.</dc:creator>
  <dc:description/>
  <dc:language>en-US</dc:language>
  <cp:lastModifiedBy>YaremchukAA</cp:lastModifiedBy>
  <dcterms:modified xsi:type="dcterms:W3CDTF">2012-03-29T12:14:22Z</dcterms:modified>
  <cp:revision>125</cp:revision>
  <dc:subject/>
  <dc:title>Разработка новых лекарственных средств на предприятии ООО «Фармтехнология»</dc:title>
</cp:coreProperties>
</file>