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wmf" ContentType="image/x-wmf"/>
  <Override PartName="/ppt/media/image4.jpeg" ContentType="image/jpeg"/>
  <Override PartName="/ppt/media/image9.png" ContentType="image/png"/>
  <Override PartName="/ppt/media/image16.jpeg" ContentType="image/jpeg"/>
  <Override PartName="/ppt/media/image15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2.wmf" ContentType="image/x-wmf"/>
  <Override PartName="/ppt/media/image7.png" ContentType="image/png"/>
  <Override PartName="/ppt/media/image11.wmf" ContentType="image/x-wmf"/>
  <Override PartName="/ppt/media/image1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80AA-E2B3-42C7-87A8-C5D572F5FD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соли метопролола быстро и свободно растворяются в водной среде в кишечнике независимо от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Только свободный метопролол присутствует в системном кровото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ире отсутствует четкая практика клинических испытаний дженериков. Но это только может быть только тогда, когда очень строго налажен контроль качества их производства и их фармацевтических свойств (чего нет в РФ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большинстве западных стран количество дженериков огранивается 2-3. Дженерики на рынке там появляются много позже, чем в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: в США до сих пор не существует ни одного дженерика симвастатина и тем более аторвастати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оригинальное лекарственное средств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личается от всех ранее зарегистрированных лекарственных средств фармакологически активным веществом или комбинацией таких вещест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Arial"/>
              </a:rPr>
              <a:t>генерическое лекарственное средств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содержит ту же фармацевтическую субстанцию или комбинацию фармацевтических субстанций в той же лекарственной форме, что и оригинальное лекарственное средство, и эквивалентное оригинальному лекарственному средству, выпускается без лицензии разработч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сивая фраза, однако можно усомниться в том, всегда ли врачи знают о различиях между оригинальными препаратами и дженери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уководство по лекарственной политике ВОЗ – лучший пример того, что при назначении препаратов необходимо сочетать их высокое качество и доступность для нар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09F4-B834-47F5-BE49-548C8A3BB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E212-28C4-4670-91E1-9FA15770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CF2F-2218-4EAA-BE3F-30567ECA4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4B51-4F34-4BB4-AC0B-DBB327940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DFD9-B07E-4B77-9BF4-CAD1B466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54EC-FAE2-455B-B3EB-FFD1B13F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CB9B-1B4A-4A38-A7E1-832FEC99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86F6-3F70-4C0F-A5DE-5DEC4518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A3ED-D10C-4181-900E-B646BB45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1C50-5954-4885-85E5-7C598A07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F817-E48A-42DD-9DB0-056CD76B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487E-7C2E-4B7D-99AA-FBF25AE2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EABF-BAB9-414F-9CEE-17CD71B7D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ФЕДРА КЛИНИЧЕСКОЙ ФАРМАКОЛОГИИ  БГ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ИНИКО-ФАРМАКОЛОГИЧЕСКИЕ ОСНОВЫ ЭФФЕКТИВНОСТИ И БЕЗОПАСНОСТИ ОТЕЧЕСТВЕННЫХ И ЗАРУБЕЖНЫХ ЛЕКАРСТВЕННЫХ СРЕД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В.Хапалю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ск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105520" y="167652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кспансия генериков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г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e817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нижение затрат на ле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e817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ступность современных ЛС для большинства паци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e817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держивание роста цен на оригинальные препар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e817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имуляция лидеров фарминдустрии к разработке принципиально новых лекар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2480" y="-360"/>
            <a:ext cx="8291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кспансия генериков: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бл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5181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льшое количество копий оригинального препарата затрудняет оценку качества конкретного генерического препар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562720" y="1828800"/>
            <a:ext cx="32907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райние суждения в отношении генерических лекарственных средст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071800"/>
            <a:ext cx="4038480" cy="4525920"/>
          </a:xfrm>
          <a:prstGeom prst="rect">
            <a:avLst/>
          </a:prstGeom>
          <a:solidFill>
            <a:srgbClr val="dfe7ff"/>
          </a:solidFill>
          <a:ln w="381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нерики, если они зарегистрированы, всегда терапевтически эквивалентны оригинальному препара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 так утверждают те, кто в той или иной степени причастен к регистрации генериков и представители компаний, выпускающих генер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2071800"/>
            <a:ext cx="4038480" cy="452592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нерики всегда хуже оригинальных препаратов: они менее эффективны и чаще дают побочны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ак утверждают представители компаний, выпускающих оригинальные препар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нятые доказательства эквивалентности генерических лекарственных средст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3796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Сравнение биоэквивалент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Сравнение терапевтической эквивалент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56560" y="3429000"/>
            <a:ext cx="2287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815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гут ли данные биоэквивалентности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(о сходстве генерика с оригинальным препаратом) помочь сделать правильный выбор ?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КОНТРОЛИРУЕМОЕ ВЫСВОБОЖДЕНИЕ МЕТОПРОЛОЛА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96200" y="4024440"/>
            <a:ext cx="88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19640" y="3716280"/>
            <a:ext cx="914400" cy="91440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40360" y="4437000"/>
            <a:ext cx="504720" cy="50472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05080" y="5011560"/>
            <a:ext cx="142920" cy="1447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21080" y="5084640"/>
            <a:ext cx="142920" cy="1447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2754000">
            <a:off x="3204000" y="4509360"/>
            <a:ext cx="142920" cy="144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754000">
            <a:off x="3637440" y="4723560"/>
            <a:ext cx="142920" cy="144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2754000">
            <a:off x="2845800" y="4723200"/>
            <a:ext cx="142920" cy="1447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2754000">
            <a:off x="3348360" y="4723560"/>
            <a:ext cx="142920" cy="144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2754000">
            <a:off x="2772720" y="4362840"/>
            <a:ext cx="142920" cy="1447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2754000">
            <a:off x="3637440" y="4939560"/>
            <a:ext cx="142920" cy="144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89440" y="5011560"/>
            <a:ext cx="142560" cy="1447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5080" y="5300640"/>
            <a:ext cx="142920" cy="144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2754000">
            <a:off x="3206160" y="4075560"/>
            <a:ext cx="142920" cy="1447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60840" y="1952640"/>
            <a:ext cx="1343160" cy="3936960"/>
          </a:xfrm>
          <a:custGeom>
            <a:avLst/>
            <a:gdLst/>
            <a:ahLst/>
            <a:rect l="l" t="t" r="r" b="b"/>
            <a:pathLst>
              <a:path w="846" h="2480">
                <a:moveTo>
                  <a:pt x="642" y="23"/>
                </a:moveTo>
                <a:cubicBezTo>
                  <a:pt x="456" y="11"/>
                  <a:pt x="271" y="0"/>
                  <a:pt x="188" y="23"/>
                </a:cubicBezTo>
                <a:cubicBezTo>
                  <a:pt x="105" y="46"/>
                  <a:pt x="67" y="129"/>
                  <a:pt x="143" y="159"/>
                </a:cubicBezTo>
                <a:cubicBezTo>
                  <a:pt x="219" y="189"/>
                  <a:pt x="551" y="181"/>
                  <a:pt x="642" y="204"/>
                </a:cubicBezTo>
                <a:cubicBezTo>
                  <a:pt x="733" y="227"/>
                  <a:pt x="763" y="280"/>
                  <a:pt x="687" y="295"/>
                </a:cubicBezTo>
                <a:cubicBezTo>
                  <a:pt x="611" y="310"/>
                  <a:pt x="279" y="272"/>
                  <a:pt x="188" y="295"/>
                </a:cubicBezTo>
                <a:cubicBezTo>
                  <a:pt x="97" y="318"/>
                  <a:pt x="60" y="401"/>
                  <a:pt x="143" y="431"/>
                </a:cubicBezTo>
                <a:cubicBezTo>
                  <a:pt x="226" y="461"/>
                  <a:pt x="589" y="453"/>
                  <a:pt x="687" y="476"/>
                </a:cubicBezTo>
                <a:cubicBezTo>
                  <a:pt x="785" y="499"/>
                  <a:pt x="740" y="537"/>
                  <a:pt x="733" y="567"/>
                </a:cubicBezTo>
                <a:cubicBezTo>
                  <a:pt x="726" y="597"/>
                  <a:pt x="703" y="650"/>
                  <a:pt x="642" y="658"/>
                </a:cubicBezTo>
                <a:cubicBezTo>
                  <a:pt x="581" y="666"/>
                  <a:pt x="446" y="612"/>
                  <a:pt x="370" y="612"/>
                </a:cubicBezTo>
                <a:cubicBezTo>
                  <a:pt x="294" y="612"/>
                  <a:pt x="218" y="628"/>
                  <a:pt x="188" y="658"/>
                </a:cubicBezTo>
                <a:cubicBezTo>
                  <a:pt x="158" y="688"/>
                  <a:pt x="105" y="779"/>
                  <a:pt x="188" y="794"/>
                </a:cubicBezTo>
                <a:cubicBezTo>
                  <a:pt x="271" y="809"/>
                  <a:pt x="596" y="726"/>
                  <a:pt x="687" y="749"/>
                </a:cubicBezTo>
                <a:cubicBezTo>
                  <a:pt x="778" y="772"/>
                  <a:pt x="816" y="907"/>
                  <a:pt x="733" y="930"/>
                </a:cubicBezTo>
                <a:cubicBezTo>
                  <a:pt x="650" y="953"/>
                  <a:pt x="294" y="878"/>
                  <a:pt x="188" y="885"/>
                </a:cubicBezTo>
                <a:cubicBezTo>
                  <a:pt x="82" y="892"/>
                  <a:pt x="113" y="945"/>
                  <a:pt x="98" y="975"/>
                </a:cubicBezTo>
                <a:cubicBezTo>
                  <a:pt x="83" y="1005"/>
                  <a:pt x="0" y="1051"/>
                  <a:pt x="98" y="1066"/>
                </a:cubicBezTo>
                <a:cubicBezTo>
                  <a:pt x="196" y="1081"/>
                  <a:pt x="574" y="1051"/>
                  <a:pt x="687" y="1066"/>
                </a:cubicBezTo>
                <a:cubicBezTo>
                  <a:pt x="800" y="1081"/>
                  <a:pt x="846" y="1134"/>
                  <a:pt x="778" y="1157"/>
                </a:cubicBezTo>
                <a:cubicBezTo>
                  <a:pt x="710" y="1180"/>
                  <a:pt x="377" y="1179"/>
                  <a:pt x="279" y="1202"/>
                </a:cubicBezTo>
                <a:cubicBezTo>
                  <a:pt x="181" y="1225"/>
                  <a:pt x="195" y="1263"/>
                  <a:pt x="188" y="1293"/>
                </a:cubicBezTo>
                <a:cubicBezTo>
                  <a:pt x="181" y="1323"/>
                  <a:pt x="143" y="1369"/>
                  <a:pt x="234" y="1384"/>
                </a:cubicBezTo>
                <a:cubicBezTo>
                  <a:pt x="325" y="1399"/>
                  <a:pt x="650" y="1361"/>
                  <a:pt x="733" y="1384"/>
                </a:cubicBezTo>
                <a:cubicBezTo>
                  <a:pt x="816" y="1407"/>
                  <a:pt x="756" y="1497"/>
                  <a:pt x="733" y="1520"/>
                </a:cubicBezTo>
                <a:cubicBezTo>
                  <a:pt x="710" y="1543"/>
                  <a:pt x="673" y="1520"/>
                  <a:pt x="597" y="1520"/>
                </a:cubicBezTo>
                <a:cubicBezTo>
                  <a:pt x="521" y="1520"/>
                  <a:pt x="332" y="1497"/>
                  <a:pt x="279" y="1520"/>
                </a:cubicBezTo>
                <a:cubicBezTo>
                  <a:pt x="226" y="1543"/>
                  <a:pt x="249" y="1626"/>
                  <a:pt x="279" y="1656"/>
                </a:cubicBezTo>
                <a:cubicBezTo>
                  <a:pt x="309" y="1686"/>
                  <a:pt x="393" y="1701"/>
                  <a:pt x="461" y="1701"/>
                </a:cubicBezTo>
                <a:cubicBezTo>
                  <a:pt x="529" y="1701"/>
                  <a:pt x="642" y="1649"/>
                  <a:pt x="687" y="1656"/>
                </a:cubicBezTo>
                <a:cubicBezTo>
                  <a:pt x="732" y="1663"/>
                  <a:pt x="756" y="1708"/>
                  <a:pt x="733" y="1746"/>
                </a:cubicBezTo>
                <a:cubicBezTo>
                  <a:pt x="710" y="1784"/>
                  <a:pt x="642" y="1860"/>
                  <a:pt x="551" y="1883"/>
                </a:cubicBezTo>
                <a:cubicBezTo>
                  <a:pt x="460" y="1906"/>
                  <a:pt x="241" y="1853"/>
                  <a:pt x="188" y="1883"/>
                </a:cubicBezTo>
                <a:cubicBezTo>
                  <a:pt x="135" y="1913"/>
                  <a:pt x="189" y="2034"/>
                  <a:pt x="234" y="2064"/>
                </a:cubicBezTo>
                <a:cubicBezTo>
                  <a:pt x="279" y="2094"/>
                  <a:pt x="378" y="2064"/>
                  <a:pt x="461" y="2064"/>
                </a:cubicBezTo>
                <a:cubicBezTo>
                  <a:pt x="544" y="2064"/>
                  <a:pt x="680" y="2041"/>
                  <a:pt x="733" y="2064"/>
                </a:cubicBezTo>
                <a:cubicBezTo>
                  <a:pt x="786" y="2087"/>
                  <a:pt x="816" y="2170"/>
                  <a:pt x="778" y="2200"/>
                </a:cubicBezTo>
                <a:cubicBezTo>
                  <a:pt x="740" y="2230"/>
                  <a:pt x="597" y="2237"/>
                  <a:pt x="506" y="2245"/>
                </a:cubicBezTo>
                <a:cubicBezTo>
                  <a:pt x="415" y="2253"/>
                  <a:pt x="279" y="2222"/>
                  <a:pt x="234" y="2245"/>
                </a:cubicBezTo>
                <a:cubicBezTo>
                  <a:pt x="189" y="2268"/>
                  <a:pt x="196" y="2344"/>
                  <a:pt x="234" y="2382"/>
                </a:cubicBezTo>
                <a:cubicBezTo>
                  <a:pt x="272" y="2420"/>
                  <a:pt x="370" y="2464"/>
                  <a:pt x="461" y="2472"/>
                </a:cubicBezTo>
                <a:cubicBezTo>
                  <a:pt x="552" y="2480"/>
                  <a:pt x="725" y="2434"/>
                  <a:pt x="778" y="2427"/>
                </a:cubicBezTo>
              </a:path>
            </a:pathLst>
          </a:custGeom>
          <a:noFill/>
          <a:ln w="2556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2060640"/>
            <a:ext cx="1342800" cy="3936960"/>
          </a:xfrm>
          <a:custGeom>
            <a:avLst/>
            <a:gdLst/>
            <a:ahLst/>
            <a:rect l="l" t="t" r="r" b="b"/>
            <a:pathLst>
              <a:path w="846" h="2480">
                <a:moveTo>
                  <a:pt x="642" y="23"/>
                </a:moveTo>
                <a:cubicBezTo>
                  <a:pt x="456" y="11"/>
                  <a:pt x="271" y="0"/>
                  <a:pt x="188" y="23"/>
                </a:cubicBezTo>
                <a:cubicBezTo>
                  <a:pt x="105" y="46"/>
                  <a:pt x="67" y="129"/>
                  <a:pt x="143" y="159"/>
                </a:cubicBezTo>
                <a:cubicBezTo>
                  <a:pt x="219" y="189"/>
                  <a:pt x="551" y="181"/>
                  <a:pt x="642" y="204"/>
                </a:cubicBezTo>
                <a:cubicBezTo>
                  <a:pt x="733" y="227"/>
                  <a:pt x="763" y="280"/>
                  <a:pt x="687" y="295"/>
                </a:cubicBezTo>
                <a:cubicBezTo>
                  <a:pt x="611" y="310"/>
                  <a:pt x="279" y="272"/>
                  <a:pt x="188" y="295"/>
                </a:cubicBezTo>
                <a:cubicBezTo>
                  <a:pt x="97" y="318"/>
                  <a:pt x="60" y="401"/>
                  <a:pt x="143" y="431"/>
                </a:cubicBezTo>
                <a:cubicBezTo>
                  <a:pt x="226" y="461"/>
                  <a:pt x="589" y="453"/>
                  <a:pt x="687" y="476"/>
                </a:cubicBezTo>
                <a:cubicBezTo>
                  <a:pt x="785" y="499"/>
                  <a:pt x="740" y="537"/>
                  <a:pt x="733" y="567"/>
                </a:cubicBezTo>
                <a:cubicBezTo>
                  <a:pt x="726" y="597"/>
                  <a:pt x="703" y="650"/>
                  <a:pt x="642" y="658"/>
                </a:cubicBezTo>
                <a:cubicBezTo>
                  <a:pt x="581" y="666"/>
                  <a:pt x="446" y="612"/>
                  <a:pt x="370" y="612"/>
                </a:cubicBezTo>
                <a:cubicBezTo>
                  <a:pt x="294" y="612"/>
                  <a:pt x="218" y="628"/>
                  <a:pt x="188" y="658"/>
                </a:cubicBezTo>
                <a:cubicBezTo>
                  <a:pt x="158" y="688"/>
                  <a:pt x="105" y="779"/>
                  <a:pt x="188" y="794"/>
                </a:cubicBezTo>
                <a:cubicBezTo>
                  <a:pt x="271" y="809"/>
                  <a:pt x="596" y="726"/>
                  <a:pt x="687" y="749"/>
                </a:cubicBezTo>
                <a:cubicBezTo>
                  <a:pt x="778" y="772"/>
                  <a:pt x="816" y="907"/>
                  <a:pt x="733" y="930"/>
                </a:cubicBezTo>
                <a:cubicBezTo>
                  <a:pt x="650" y="953"/>
                  <a:pt x="294" y="878"/>
                  <a:pt x="188" y="885"/>
                </a:cubicBezTo>
                <a:cubicBezTo>
                  <a:pt x="82" y="892"/>
                  <a:pt x="113" y="945"/>
                  <a:pt x="98" y="975"/>
                </a:cubicBezTo>
                <a:cubicBezTo>
                  <a:pt x="83" y="1005"/>
                  <a:pt x="0" y="1051"/>
                  <a:pt x="98" y="1066"/>
                </a:cubicBezTo>
                <a:cubicBezTo>
                  <a:pt x="196" y="1081"/>
                  <a:pt x="574" y="1051"/>
                  <a:pt x="687" y="1066"/>
                </a:cubicBezTo>
                <a:cubicBezTo>
                  <a:pt x="800" y="1081"/>
                  <a:pt x="846" y="1134"/>
                  <a:pt x="778" y="1157"/>
                </a:cubicBezTo>
                <a:cubicBezTo>
                  <a:pt x="710" y="1180"/>
                  <a:pt x="377" y="1179"/>
                  <a:pt x="279" y="1202"/>
                </a:cubicBezTo>
                <a:cubicBezTo>
                  <a:pt x="181" y="1225"/>
                  <a:pt x="195" y="1263"/>
                  <a:pt x="188" y="1293"/>
                </a:cubicBezTo>
                <a:cubicBezTo>
                  <a:pt x="181" y="1323"/>
                  <a:pt x="143" y="1369"/>
                  <a:pt x="234" y="1384"/>
                </a:cubicBezTo>
                <a:cubicBezTo>
                  <a:pt x="325" y="1399"/>
                  <a:pt x="650" y="1361"/>
                  <a:pt x="733" y="1384"/>
                </a:cubicBezTo>
                <a:cubicBezTo>
                  <a:pt x="816" y="1407"/>
                  <a:pt x="756" y="1497"/>
                  <a:pt x="733" y="1520"/>
                </a:cubicBezTo>
                <a:cubicBezTo>
                  <a:pt x="710" y="1543"/>
                  <a:pt x="673" y="1520"/>
                  <a:pt x="597" y="1520"/>
                </a:cubicBezTo>
                <a:cubicBezTo>
                  <a:pt x="521" y="1520"/>
                  <a:pt x="332" y="1497"/>
                  <a:pt x="279" y="1520"/>
                </a:cubicBezTo>
                <a:cubicBezTo>
                  <a:pt x="226" y="1543"/>
                  <a:pt x="249" y="1626"/>
                  <a:pt x="279" y="1656"/>
                </a:cubicBezTo>
                <a:cubicBezTo>
                  <a:pt x="309" y="1686"/>
                  <a:pt x="393" y="1701"/>
                  <a:pt x="461" y="1701"/>
                </a:cubicBezTo>
                <a:cubicBezTo>
                  <a:pt x="529" y="1701"/>
                  <a:pt x="642" y="1649"/>
                  <a:pt x="687" y="1656"/>
                </a:cubicBezTo>
                <a:cubicBezTo>
                  <a:pt x="732" y="1663"/>
                  <a:pt x="756" y="1708"/>
                  <a:pt x="733" y="1746"/>
                </a:cubicBezTo>
                <a:cubicBezTo>
                  <a:pt x="710" y="1784"/>
                  <a:pt x="642" y="1860"/>
                  <a:pt x="551" y="1883"/>
                </a:cubicBezTo>
                <a:cubicBezTo>
                  <a:pt x="460" y="1906"/>
                  <a:pt x="241" y="1853"/>
                  <a:pt x="188" y="1883"/>
                </a:cubicBezTo>
                <a:cubicBezTo>
                  <a:pt x="135" y="1913"/>
                  <a:pt x="189" y="2034"/>
                  <a:pt x="234" y="2064"/>
                </a:cubicBezTo>
                <a:cubicBezTo>
                  <a:pt x="279" y="2094"/>
                  <a:pt x="378" y="2064"/>
                  <a:pt x="461" y="2064"/>
                </a:cubicBezTo>
                <a:cubicBezTo>
                  <a:pt x="544" y="2064"/>
                  <a:pt x="680" y="2041"/>
                  <a:pt x="733" y="2064"/>
                </a:cubicBezTo>
                <a:cubicBezTo>
                  <a:pt x="786" y="2087"/>
                  <a:pt x="816" y="2170"/>
                  <a:pt x="778" y="2200"/>
                </a:cubicBezTo>
                <a:cubicBezTo>
                  <a:pt x="740" y="2230"/>
                  <a:pt x="597" y="2237"/>
                  <a:pt x="506" y="2245"/>
                </a:cubicBezTo>
                <a:cubicBezTo>
                  <a:pt x="415" y="2253"/>
                  <a:pt x="279" y="2222"/>
                  <a:pt x="234" y="2245"/>
                </a:cubicBezTo>
                <a:cubicBezTo>
                  <a:pt x="189" y="2268"/>
                  <a:pt x="196" y="2344"/>
                  <a:pt x="234" y="2382"/>
                </a:cubicBezTo>
                <a:cubicBezTo>
                  <a:pt x="272" y="2420"/>
                  <a:pt x="370" y="2464"/>
                  <a:pt x="461" y="2472"/>
                </a:cubicBezTo>
                <a:cubicBezTo>
                  <a:pt x="552" y="2480"/>
                  <a:pt x="725" y="2434"/>
                  <a:pt x="778" y="2427"/>
                </a:cubicBezTo>
              </a:path>
            </a:pathLst>
          </a:custGeom>
          <a:noFill/>
          <a:ln w="2556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84360" y="2924280"/>
            <a:ext cx="914400" cy="91440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050920" y="1844640"/>
            <a:ext cx="914400" cy="91440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19640" y="4005360"/>
            <a:ext cx="21564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92360" y="4292640"/>
            <a:ext cx="21600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80000" y="4437000"/>
            <a:ext cx="21564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7640" y="4437000"/>
            <a:ext cx="504720" cy="50472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9640" y="4005360"/>
            <a:ext cx="504720" cy="50472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64360" y="3429000"/>
            <a:ext cx="504720" cy="50472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58000" y="195732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Ж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8520" y="1916280"/>
            <a:ext cx="115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Кров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48360" y="4437000"/>
            <a:ext cx="647640" cy="486000"/>
          </a:xfrm>
          <a:prstGeom prst="rightArrow">
            <a:avLst>
              <a:gd name="adj1" fmla="val 50000"/>
              <a:gd name="adj2" fmla="val 333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035800">
            <a:off x="2613960" y="4738320"/>
            <a:ext cx="1089000" cy="485640"/>
          </a:xfrm>
          <a:prstGeom prst="rightArrow">
            <a:avLst>
              <a:gd name="adj1" fmla="val 50000"/>
              <a:gd name="adj2" fmla="val 5606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2754000">
            <a:off x="3996720" y="5083560"/>
            <a:ext cx="142920" cy="1447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2754000">
            <a:off x="3924720" y="4723560"/>
            <a:ext cx="142920" cy="144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2754000">
            <a:off x="3708720" y="5444280"/>
            <a:ext cx="142920" cy="144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32000" y="5516640"/>
            <a:ext cx="142920" cy="144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96360" y="2565360"/>
            <a:ext cx="504720" cy="504720"/>
          </a:xfrm>
          <a:prstGeom prst="ellipse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20" y="6093000"/>
            <a:ext cx="561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СОЛЬ РАСТВОРЯЕТСЯ ПЕРЕД ВСАСЫВА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13560" y="5157720"/>
            <a:ext cx="346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АКТИВЕН ТОЛЬ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СВОБОДНЫЙ МЕТОПРОЛ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96320" y="1390680"/>
            <a:ext cx="23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Всасы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Нужно ли проводить клинические испытания генерических лекарственных средств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К РАСПРОСТРАНЯЮТСЯ РЕЗУЛЬТАТЫ РАНДОМИЗИРОВАННЫХ КЛИНИЧЕСКИХ ИСПЫТАНИЙ  НА ГЕНЕРИЧЕСКИЕ ЛЕКАРСТВЕННЫЕ СРЕДСТ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Л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ЕКАРСТВО-ГЕНЕРИК ПОВТОРЯЕТ ЭФФЕКТ ОРИГИНАЛЬНЫХ ЛЕКАРСТВЕННЫХ СРЕДСТВ, ЕСЛИ ЕСТЬ ДОКАЗАТЕЛЬСТВА ЕГО </a:t>
            </a:r>
            <a:r>
              <a:rPr b="1" i="1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ТЕРАПЕВТИЧЕСКОЙ ЭКВИВАЛЕНТНОСТИ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6920" y="1218960"/>
            <a:ext cx="87487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сегда ли генерические лекарственные средства так же безопасны, как оригинальные препараты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933640" y="3505320"/>
            <a:ext cx="32767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Идеальное» лекарств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2742840"/>
            <a:ext cx="4572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ффектив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опас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обно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для прие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упно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по цен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0" y="2971800"/>
            <a:ext cx="391464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гда можно быть уверенным в качестве генерического лекарственного сред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58560" y="2133360"/>
            <a:ext cx="8785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Clr>
                <a:srgbClr val="bbe0e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Если он производится в соответствии с (Европейским)  стандартом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M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Clr>
                <a:srgbClr val="bbe0e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Если компания-производитель предоставляет данные его био- и терапевтической эквивалентности оригинальному препара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Clr>
                <a:srgbClr val="bbe0e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Если есть данные о том, что он зарегистрирован и продается в странах Западной Европы и США </a:t>
            </a:r>
            <a:r>
              <a:rPr b="1" lang="ru-RU" sz="2800" spc="-1" strike="noStrike">
                <a:solidFill>
                  <a:srgbClr val="009999"/>
                </a:solidFill>
                <a:latin typeface="Tahoma"/>
              </a:rPr>
              <a:t>(жесткие требования к регистраци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8560" y="6093000"/>
            <a:ext cx="202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.Ю. Марц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514600" y="0"/>
            <a:ext cx="457524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Европейские компании включают  информацию о безопасности производимых ими препаратов в регулярно обновляемые отчеты по безопасности (PSUR) для регуляторных органов Евросоюз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Для Республики Беларусь – одна из важнейших задач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990720"/>
            <a:ext cx="80773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БОЛЬШИНСТВО ЛЮДЕЙ ПОЛАГАЕТ, ЧТО ЕСЛИ ЧТО-ЛИБО СТОИТ БОЛЬШЕ, ТО ОНО ИМЕЕТ ЛУЧШЕЕ КАЧЕСТВО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В СЛУЧАЕ ГЕНЕРИЧЕСКИХ ЛЕКАРСТВ ЭТО НЕ СООТВЕТСТВУЕТ ИСТИ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54864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ry Buehle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ьник управления по контролю за генерическими лекарствам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КОНЦЕПЦИЯ «ПЕРСОНАЛЬНЫХ» ЛЕКАРСТВЕННЫХ СРЕДСТВ-</a:t>
            </a:r>
            <a:br>
              <a:rPr sz="2800"/>
            </a:b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(П-лекарств) </a:t>
            </a: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ЫБОР П-ЛЕКАРСТВА ОСНОВАН НА УЧЕТЕ СЛЕДУЮЩИХ КРИТЕРИЕ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ЭФФЕКТИВНО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РИЕМЛЕМ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ТОИМ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КОНЦЕПЦИЯ «ПЕРСОНАЛЬНЫХ» ЛЕКАРСТВЕННЫХ СРЕДСТВ-</a:t>
            </a:r>
            <a:br>
              <a:rPr sz="2800"/>
            </a:b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(П-лекарств)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 - лекарства - это лекарственные средства, которые врач на основании достоверной научной информации выбрал для назначения своим пациентам в качестве приоритетных средст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2800" spc="-1" strike="noStrike">
                <a:solidFill>
                  <a:srgbClr val="990033"/>
                </a:solidFill>
                <a:latin typeface="Arial"/>
              </a:rPr>
              <a:t>КРИТЕРИИ ОЦЕНКИ ОБОСНОВАННОСТИ НАЗНАЧЕНИЯ П-ЛЕКАРСТВА КОНКРЕТНОМУ ПАЦИЕНТУ 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ЭФФЕКТИВНОСТЬ - анализ фармакодинамики, фармакокинетики, системных эффектов П-лекар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БЕЗОПАСНОСТЬ- учет побочных эффектов и вероятности неблагоприятных побочных реакций П-лекарств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803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РИЕМЛЕМОСТЬ - учет сопутствующих заболеваний больного, взаимодействие П-лекарства с другими препаратами, который он приним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ТОИМОСТЬ - расчет стоимости всего периода ле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738720"/>
            <a:ext cx="7391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Arial"/>
              </a:rPr>
              <a:t>КРИТЕРИИ ОЦЕНКИ ОБОСНОВАННОСТИ НАЗНАЧЕНИЯ П-ЛЕКАРСТВА КОНКРЕТНОМУ ПАЦИЕНТУ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447920" y="228600"/>
            <a:ext cx="7696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БЛАГОДАРЮ  ЗА ВНИМАНИЕ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м мы лечи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2514240"/>
            <a:ext cx="48769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игинальными лекар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нерическими (воспроизведенным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кар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867280" y="1981080"/>
            <a:ext cx="291780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разобраться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в терминах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2666880"/>
            <a:ext cx="4800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игинальное лекарственное сред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нерическое лекарственное сред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4120" y="2971800"/>
            <a:ext cx="3504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920" y="304560"/>
            <a:ext cx="8316720" cy="28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дкий врач не желает использовать в своей практике исключительно оригинальные препараты, эффективность которых доказана в многоцентровых клинических исследованиях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62520" y="3429000"/>
            <a:ext cx="487656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3360" y="304920"/>
            <a:ext cx="829476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им препаратам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тдавать предпочте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0040" y="4191120"/>
            <a:ext cx="8142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ормулируя политику в отношении лекарств, в первую очередь следует иметь в виду, что целью является обеспечение качественными лекарствами тех, кто в них нуждается, и по ценам, доступным для них или для их 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20417" r="0" b="0"/>
          <a:stretch/>
        </p:blipFill>
        <p:spPr>
          <a:xfrm>
            <a:off x="4876920" y="1676520"/>
            <a:ext cx="3657600" cy="20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Доля генериков на фармацевтических рынках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649116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GA internal survey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638680" y="62485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GA internal survey </a:t>
            </a:r>
            <a:r>
              <a:rPr b="1" lang="en-US" sz="2000" spc="-1" strike="noStrike">
                <a:solidFill>
                  <a:srgbClr val="ff7c80"/>
                </a:solidFill>
                <a:latin typeface="Arial"/>
              </a:rPr>
              <a:t>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5282" t="43324" r="66154" b="29973"/>
          <a:stretch/>
        </p:blipFill>
        <p:spPr>
          <a:xfrm>
            <a:off x="4191120" y="2057400"/>
            <a:ext cx="1752480" cy="1828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5282" t="43324" r="66154" b="29973"/>
          <a:stretch/>
        </p:blipFill>
        <p:spPr>
          <a:xfrm>
            <a:off x="6858000" y="1981080"/>
            <a:ext cx="1752480" cy="1828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086600" y="2666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ША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25909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ранция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rcRect l="42549" t="45553" r="27642" b="27749"/>
          <a:stretch/>
        </p:blipFill>
        <p:spPr>
          <a:xfrm>
            <a:off x="762120" y="22096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66680" y="26668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пония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rcRect l="68948" t="72256" r="0" b="0"/>
          <a:stretch/>
        </p:blipFill>
        <p:spPr>
          <a:xfrm>
            <a:off x="7010280" y="4343400"/>
            <a:ext cx="1905120" cy="1900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rcRect l="36029" t="72256" r="34163" b="0"/>
          <a:stretch/>
        </p:blipFill>
        <p:spPr>
          <a:xfrm>
            <a:off x="3657600" y="4343400"/>
            <a:ext cx="1828800" cy="1900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rcRect l="2483" t="72256" r="67704" b="0"/>
          <a:stretch/>
        </p:blipFill>
        <p:spPr>
          <a:xfrm>
            <a:off x="685800" y="4572000"/>
            <a:ext cx="1828800" cy="1900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066680" y="51814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глия 5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14800" y="51814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талия 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62920" y="510552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нада 6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тельства и страховые компании принимают меры по снижению расходов на лечение, увеличивая долю генериков</a:t>
            </a:r>
            <a:r>
              <a:rPr b="0" lang="ru-RU" sz="1600" spc="-1" strike="noStrike">
                <a:solidFill>
                  <a:srgbClr val="333399"/>
                </a:solidFill>
                <a:latin typeface="PetersburgCTT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28600" y="1905120"/>
          <a:ext cx="4038480" cy="392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05120"/>
                    <a:ext cx="4038480" cy="39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152280" y="632448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S MIDAS, декабрь</a:t>
            </a:r>
            <a:r>
              <a:rPr b="1" lang="en-US" sz="2000" spc="-1" strike="noStrike">
                <a:solidFill>
                  <a:srgbClr val="ff7c80"/>
                </a:solidFill>
                <a:latin typeface="Arial"/>
              </a:rPr>
              <a:t>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105520" y="1981080"/>
          <a:ext cx="4038480" cy="392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1981080"/>
                    <a:ext cx="4038480" cy="39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5638680" y="62485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GA internal survey </a:t>
            </a:r>
            <a:r>
              <a:rPr b="1" lang="en-US" sz="2000" spc="-1" strike="noStrike">
                <a:solidFill>
                  <a:srgbClr val="ff7c80"/>
                </a:solidFill>
                <a:latin typeface="Arial"/>
              </a:rPr>
              <a:t>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95720" y="3505320"/>
            <a:ext cx="952560" cy="609480"/>
          </a:xfrm>
          <a:prstGeom prst="rightArrow">
            <a:avLst>
              <a:gd name="adj1" fmla="val 50000"/>
              <a:gd name="adj2" fmla="val 39073"/>
            </a:avLst>
          </a:pr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167652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Потребление ЛС в Великобрит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 ЧТО У НАС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80880" y="1371600"/>
          <a:ext cx="8356680" cy="44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835668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palukAV</cp:lastModifiedBy>
  <dcterms:modified xsi:type="dcterms:W3CDTF">2012-03-27T09:30:46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