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93E294-3634-4548-BEB7-5D81028E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BB0718-2BA4-47BB-A9A9-E6FE57F2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F989C0-5EA7-4CE5-AFE0-EFDDBC60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FED25F-96FC-438C-B108-88E9A150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178B95-9357-4B69-9A7A-8E2D685A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4FDCF9-193D-422C-A3DC-E193C06F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3CCB97-D0A1-42BC-9C1C-55911DB1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E56BDA-FF45-4A28-89D7-8C4B269F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7D205A-916D-4470-B634-4ECD987C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C0A9DE-9DD8-4410-AEC7-7E9080F4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E5E7B0-867C-4227-A0FF-3271BE21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6DECD9-D67F-41AC-A210-9E635BD7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C43D3E-F2DA-4C35-8DDA-4278232D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33F938-235A-446C-8AA0-CA55FADD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75A56E-B929-4272-8EC4-2279B856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5237C7-A7CF-473C-8857-879E2D70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39F325-5A91-4257-99EF-D5284F2C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C89861-5287-4035-9079-22E13338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AB1CB4-917D-4D52-8CB5-81ED8974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D4B082-5426-4A3A-B159-235A7D3F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6B36B1-8F35-4E48-839F-01F66B62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55822F-EB81-4980-8D68-EFC2245B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047092-8770-4D25-8133-C6DEB428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87BF01-BC68-4F5F-97D4-161C1FA1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BCBAC2-386E-46C7-8A3E-37963C56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590C6D-E818-47E7-AB4F-E601CEFB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920F5A-1FCF-436D-8766-63432DAC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2238C8-EF0B-4828-8852-A954964F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9A5B55-BB86-45A2-8758-5E0CFD23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071EC9-3ABF-4B13-AA39-22011001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89CE65-96D0-46A3-9EF1-B07531D3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C1D899-7E67-463A-884A-47387427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A67B01-F273-4D27-97C5-E5275F0E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6CF19-10E4-42C8-86EE-9019DC4A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EF935-1FFB-44F3-B5A7-F6402EB3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1CD57-67EA-4F03-8376-909DC0A4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8D300-2168-4A4F-BCB6-7FB59EB6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7BCA8-7B30-4933-BAB4-72FF24CE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079A5-B5EB-47A3-ABA7-841BAA25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444E3-8ED1-469E-BDC7-C830B612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FC232-795F-4AD3-BBCF-39070031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8331C-B5AA-4FD8-A3CF-D08FA178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0F0F0-9710-470F-BECE-3587AF0C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73C20-0696-48EF-AF3E-2F41C568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734DF-F061-49F9-BEB5-701DFB75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1F124-901D-4462-94C4-F839BBFF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80E819-A198-4D8D-AD14-8199B915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EA75FD-8D9D-460D-BF6A-E7ECD73E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0FFB8A-9838-4008-A488-6E491FF3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6C4D77-8FB3-44F6-AA56-1AB8AA2F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7E6C48-834A-41EB-B3F7-CE43D6DE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1A0EA8-B27F-4855-85AA-BBC70D12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2B56DB-A70D-45EE-8066-5050C677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1D14F8-8593-4D4B-9DD6-F958A103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ED2127-4444-4055-A613-EC8C0A51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B2FCF1-BD15-4089-A3C5-04B0F94C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761CDA-CFDC-4CF4-B859-17C8C9D1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12B6E9-128F-4415-8A3B-51DF5540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FCDF2-CFE3-4B7A-8E6E-888F6CAE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548E41-F22F-4283-86CA-B0BFA86C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B603F9-EC13-463D-887F-5D7B899D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BC7BAD-A5AD-4197-85A2-126700C1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AA8535-1110-4EB8-A248-AE119DEB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1724E3-460D-43D9-ADB6-AAC9D4BC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95846C-3351-43DA-99F8-15CE9EAA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BE3A4B-E0DE-44A2-99F8-6250AAC1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2577E2-B0B3-482A-9B46-F08972C9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17297-BF89-41D7-B83A-6A4B7323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09023-6CBB-4F08-9C7E-73F344F0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B32D1C-FE1D-4699-AFFB-18A0CA1D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B58625-5A33-4E04-8EC0-6921EBC2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EB85D7-5575-4674-A635-F5C1A8E5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73A45B-608A-4B75-B9B9-7C2C733D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061334-821A-4B52-9B7A-9B7EE332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C5A5C5-D1A6-497F-998D-4841E59E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60A804-6DCD-4EC0-8BF6-72E97031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90DA35-D657-415E-B27E-0593700A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EDA14E-8C68-4B6B-9638-E5C63CA5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E3B49F-A7E5-4C96-9C12-D0326662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FFC210-83FC-465E-95EA-723941BD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879DC0-3BF8-4A9E-828D-123EE142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85FB19-7249-482A-A636-C94CED42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D7D004-2D06-4A2B-8534-E2D2FB71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AA3C6F-9786-461E-B467-6BBECA90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4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E353-DEE1-4D81-82D0-A8E1F126542A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6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44AD-2D80-4421-B6EA-C2922A03109A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436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17"/>
          </p:nvPr>
        </p:nvSpPr>
        <p:spPr>
          <a:xfrm>
            <a:off x="183960" y="6377040"/>
            <a:ext cx="127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E8A3-4B1C-4288-AE6A-F76E8EE6EE2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480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5297-2D75-4175-962D-6CDB9475406A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482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0"/>
          </p:nvPr>
        </p:nvSpPr>
        <p:spPr>
          <a:xfrm>
            <a:off x="183960" y="6377040"/>
            <a:ext cx="127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4B44-08AD-459D-81A9-65B99647CE1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651D-F6EE-41AD-99D5-FEAAB59FCE1B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15" descr=""/>
          <p:cNvPicPr/>
          <p:nvPr/>
        </p:nvPicPr>
        <p:blipFill>
          <a:blip r:embed="rId4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"/>
          <p:cNvPicPr/>
          <p:nvPr/>
        </p:nvPicPr>
        <p:blipFill>
          <a:blip r:embed="rId5"/>
          <a:stretch/>
        </p:blipFill>
        <p:spPr>
          <a:xfrm>
            <a:off x="-9360" y="0"/>
            <a:ext cx="1790640" cy="157464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5"/>
          <p:cNvSpPr/>
          <p:nvPr/>
        </p:nvSpPr>
        <p:spPr>
          <a:xfrm>
            <a:off x="60480" y="345600"/>
            <a:ext cx="9144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Министерство здравоохранения Республики Беларусь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15"/>
          <p:cNvSpPr/>
          <p:nvPr/>
        </p:nvSpPr>
        <p:spPr>
          <a:xfrm>
            <a:off x="-14400" y="1557360"/>
            <a:ext cx="91504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119160" y="641520"/>
            <a:ext cx="9144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спубликанское унитарное предприят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Центр экспертиз и испытаний в здравоохранении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1"/>
          </p:nvPr>
        </p:nvSpPr>
        <p:spPr>
          <a:xfrm>
            <a:off x="3124080" y="6064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Минск, 20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64E7-0675-42AA-BFBD-A17B3C94983B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Группа 10"/>
          <p:cNvGrpSpPr/>
          <p:nvPr/>
        </p:nvGrpSpPr>
        <p:grpSpPr>
          <a:xfrm>
            <a:off x="250920" y="1100160"/>
            <a:ext cx="8043840" cy="5065560"/>
            <a:chOff x="250920" y="1100160"/>
            <a:chExt cx="8043840" cy="5065560"/>
          </a:xfrm>
        </p:grpSpPr>
        <p:pic>
          <p:nvPicPr>
            <p:cNvPr id="99" name="Группа 10" descr=""/>
            <p:cNvPicPr/>
            <p:nvPr/>
          </p:nvPicPr>
          <p:blipFill>
            <a:blip r:embed="rId4"/>
            <a:stretch/>
          </p:blipFill>
          <p:spPr>
            <a:xfrm>
              <a:off x="273960" y="1100160"/>
              <a:ext cx="80208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Прямая соединительная линия 12"/>
            <p:cNvSpPr/>
            <p:nvPr/>
          </p:nvSpPr>
          <p:spPr>
            <a:xfrm flipH="1">
              <a:off x="250920" y="2737080"/>
              <a:ext cx="131040" cy="57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Прямая соединительная линия 13"/>
            <p:cNvSpPr/>
            <p:nvPr/>
          </p:nvSpPr>
          <p:spPr>
            <a:xfrm>
              <a:off x="250920" y="2737080"/>
              <a:ext cx="0" cy="22734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15"/>
            <p:cNvSpPr/>
            <p:nvPr/>
          </p:nvSpPr>
          <p:spPr>
            <a:xfrm>
              <a:off x="250920" y="5010480"/>
              <a:ext cx="31392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16"/>
            <p:cNvSpPr/>
            <p:nvPr/>
          </p:nvSpPr>
          <p:spPr>
            <a:xfrm>
              <a:off x="250920" y="4186800"/>
              <a:ext cx="28764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Прямая соединительная линия 17"/>
            <p:cNvSpPr/>
            <p:nvPr/>
          </p:nvSpPr>
          <p:spPr>
            <a:xfrm>
              <a:off x="250920" y="3455280"/>
              <a:ext cx="28764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Прямая соединительная линия 18"/>
            <p:cNvSpPr/>
            <p:nvPr/>
          </p:nvSpPr>
          <p:spPr>
            <a:xfrm flipH="1" flipV="1">
              <a:off x="3524400" y="1645200"/>
              <a:ext cx="7560" cy="756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Прямая соединительная линия 19"/>
            <p:cNvSpPr/>
            <p:nvPr/>
          </p:nvSpPr>
          <p:spPr>
            <a:xfrm flipH="1" flipV="1">
              <a:off x="1659600" y="1645200"/>
              <a:ext cx="9360" cy="756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Прямая соединительная линия 20"/>
            <p:cNvSpPr/>
            <p:nvPr/>
          </p:nvSpPr>
          <p:spPr>
            <a:xfrm>
              <a:off x="3196440" y="2313000"/>
              <a:ext cx="0" cy="26974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Прямая соединительная линия 21"/>
            <p:cNvSpPr/>
            <p:nvPr/>
          </p:nvSpPr>
          <p:spPr>
            <a:xfrm flipV="1">
              <a:off x="4440960" y="1542240"/>
              <a:ext cx="0" cy="1029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Прямая соединительная линия 22"/>
            <p:cNvSpPr/>
            <p:nvPr/>
          </p:nvSpPr>
          <p:spPr>
            <a:xfrm>
              <a:off x="3196440" y="2737080"/>
              <a:ext cx="1497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Прямая соединительная линия 23"/>
            <p:cNvSpPr/>
            <p:nvPr/>
          </p:nvSpPr>
          <p:spPr>
            <a:xfrm>
              <a:off x="3196440" y="3455280"/>
              <a:ext cx="1497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Прямая соединительная линия 24"/>
            <p:cNvSpPr/>
            <p:nvPr/>
          </p:nvSpPr>
          <p:spPr>
            <a:xfrm>
              <a:off x="3196440" y="5010480"/>
              <a:ext cx="16092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Прямая соединительная линия 25"/>
            <p:cNvSpPr/>
            <p:nvPr/>
          </p:nvSpPr>
          <p:spPr>
            <a:xfrm>
              <a:off x="3196440" y="4267080"/>
              <a:ext cx="149760" cy="10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Прямая соединительная линия 26"/>
            <p:cNvSpPr/>
            <p:nvPr/>
          </p:nvSpPr>
          <p:spPr>
            <a:xfrm flipV="1">
              <a:off x="4312800" y="1988640"/>
              <a:ext cx="1175400" cy="270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Прямая соединительная линия 27"/>
            <p:cNvSpPr/>
            <p:nvPr/>
          </p:nvSpPr>
          <p:spPr>
            <a:xfrm>
              <a:off x="5488560" y="1989000"/>
              <a:ext cx="0" cy="3844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Прямая соединительная линия 28"/>
            <p:cNvSpPr/>
            <p:nvPr/>
          </p:nvSpPr>
          <p:spPr>
            <a:xfrm>
              <a:off x="5096160" y="3085560"/>
              <a:ext cx="0" cy="26805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Прямая соединительная линия 29"/>
            <p:cNvSpPr/>
            <p:nvPr/>
          </p:nvSpPr>
          <p:spPr>
            <a:xfrm flipV="1">
              <a:off x="5096160" y="3633840"/>
              <a:ext cx="232920" cy="28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Прямая соединительная линия 30"/>
            <p:cNvSpPr/>
            <p:nvPr/>
          </p:nvSpPr>
          <p:spPr>
            <a:xfrm>
              <a:off x="5085000" y="4471560"/>
              <a:ext cx="20772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Прямая соединительная линия 31"/>
            <p:cNvSpPr/>
            <p:nvPr/>
          </p:nvSpPr>
          <p:spPr>
            <a:xfrm>
              <a:off x="5096160" y="5078880"/>
              <a:ext cx="2235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ая соединительная линия 32"/>
            <p:cNvSpPr/>
            <p:nvPr/>
          </p:nvSpPr>
          <p:spPr>
            <a:xfrm>
              <a:off x="5085000" y="5766480"/>
              <a:ext cx="2343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2007-216D-45BE-97D7-FDB9B05306E3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10" descr=""/>
          <p:cNvPicPr/>
          <p:nvPr/>
        </p:nvPicPr>
        <p:blipFill>
          <a:blip r:embed="rId4"/>
          <a:stretch/>
        </p:blipFill>
        <p:spPr>
          <a:xfrm>
            <a:off x="5313240" y="2781360"/>
            <a:ext cx="3456000" cy="3002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AE6A-4A6C-47F6-8494-ED7D2CD08413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2"/>
          </p:nvPr>
        </p:nvSpPr>
        <p:spPr>
          <a:xfrm>
            <a:off x="183960" y="6377040"/>
            <a:ext cx="127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728A-B0C0-407F-A5EC-E9B6A6C9E1D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0409-5A21-4FED-9B1F-8E03FFCDC891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5"/>
          </p:nvPr>
        </p:nvSpPr>
        <p:spPr>
          <a:xfrm>
            <a:off x="183960" y="6377040"/>
            <a:ext cx="127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3580-A314-46F0-9355-A726C7DF344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02FA-66AB-4C04-AF9B-F9E9B4E357EC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298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8"/>
          </p:nvPr>
        </p:nvSpPr>
        <p:spPr>
          <a:xfrm>
            <a:off x="183960" y="6377040"/>
            <a:ext cx="127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9EA5-41B5-4B17-ADAB-A9711C8D625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342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F5DF-9FC0-44BF-A1C6-2192B176A506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344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1"/>
          </p:nvPr>
        </p:nvSpPr>
        <p:spPr>
          <a:xfrm>
            <a:off x="183960" y="6377040"/>
            <a:ext cx="127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CA5B-F26B-451E-9742-A92D3AFE54E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388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731B-10E1-43DA-B0E6-5756593CE320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4"/>
          </p:nvPr>
        </p:nvSpPr>
        <p:spPr>
          <a:xfrm>
            <a:off x="183960" y="6377040"/>
            <a:ext cx="127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4A6B-6D0C-4E9C-9079-A77CBC0E28A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542880" y="1773360"/>
            <a:ext cx="8051760" cy="2444760"/>
          </a:xfrm>
          <a:prstGeom prst="rect">
            <a:avLst/>
          </a:prstGeom>
          <a:ln w="0">
            <a:noFill/>
          </a:ln>
        </p:spPr>
      </p:pic>
      <p:pic>
        <p:nvPicPr>
          <p:cNvPr id="525" name="Подзаголовок 2" descr=""/>
          <p:cNvPicPr/>
          <p:nvPr/>
        </p:nvPicPr>
        <p:blipFill>
          <a:blip r:embed="rId2"/>
          <a:stretch/>
        </p:blipFill>
        <p:spPr>
          <a:xfrm>
            <a:off x="1371600" y="4406760"/>
            <a:ext cx="6400800" cy="115884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3"/>
          <p:cNvSpPr/>
          <p:nvPr/>
        </p:nvSpPr>
        <p:spPr>
          <a:xfrm>
            <a:off x="0" y="6012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Минск,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Calibri"/>
              </a:rPr>
              <a:t>Республиканское унитарное предприятие «Цент экспертиз и испытаний в здравоохранении»</a:t>
            </a:r>
            <a:endParaRPr b="0" i="1" lang="en-US" sz="16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19200" y="2204640"/>
            <a:ext cx="47131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561" name="Рисунок 2" descr=""/>
          <p:cNvPicPr/>
          <p:nvPr/>
        </p:nvPicPr>
        <p:blipFill>
          <a:blip r:embed="rId1"/>
          <a:stretch/>
        </p:blipFill>
        <p:spPr>
          <a:xfrm>
            <a:off x="5313240" y="2538360"/>
            <a:ext cx="3456000" cy="3245040"/>
          </a:xfrm>
          <a:prstGeom prst="rect">
            <a:avLst/>
          </a:prstGeom>
          <a:ln w="0">
            <a:noFill/>
          </a:ln>
        </p:spPr>
      </p:pic>
      <p:sp>
        <p:nvSpPr>
          <p:cNvPr id="562" name="TextBox 4"/>
          <p:cNvSpPr/>
          <p:nvPr/>
        </p:nvSpPr>
        <p:spPr>
          <a:xfrm>
            <a:off x="49320" y="640404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Минск, 20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Прямоугольник 2"/>
          <p:cNvSpPr/>
          <p:nvPr/>
        </p:nvSpPr>
        <p:spPr>
          <a:xfrm>
            <a:off x="82440" y="43275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Calibri"/>
              </a:rPr>
              <a:t>Адрес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Calibri"/>
              </a:rPr>
              <a:t>пер. Товарищеский, </a:t>
            </a:r>
            <a:r>
              <a:rPr b="0" i="1" lang="en-GB" sz="1800" spc="-1" strike="noStrike">
                <a:solidFill>
                  <a:srgbClr val="0033cc"/>
                </a:solidFill>
                <a:latin typeface="Calibri"/>
              </a:rPr>
              <a:t>2a</a:t>
            </a:r>
            <a:r>
              <a:rPr b="0" i="1" lang="ru-RU" sz="1800" spc="-1" strike="noStrike">
                <a:solidFill>
                  <a:srgbClr val="0033cc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3cc"/>
                </a:solidFill>
                <a:latin typeface="Calibri"/>
              </a:rPr>
              <a:t>220037</a:t>
            </a:r>
            <a:r>
              <a:rPr b="0" i="1" lang="ru-RU" sz="1800" spc="-1" strike="noStrike">
                <a:solidFill>
                  <a:srgbClr val="0033cc"/>
                </a:solidFill>
                <a:latin typeface="Calibri"/>
              </a:rPr>
              <a:t>, г. Минск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Calibri"/>
              </a:rPr>
              <a:t>Республика Белару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33cc"/>
                </a:solidFill>
                <a:latin typeface="Calibri"/>
              </a:rPr>
              <a:t>www.rceth.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920" y="115920"/>
            <a:ext cx="9134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Calibri"/>
              </a:rPr>
              <a:t>РАЗРАБОТКА ЕДИНЫХ МЕЖГОСУДАРСТВЕННЫХ ПОДХОДОВ </a:t>
            </a:r>
            <a:br>
              <a:rPr sz="2400"/>
            </a:br>
            <a:r>
              <a:rPr b="0" i="1" lang="ru-RU" sz="2400" spc="-1" strike="noStrike">
                <a:solidFill>
                  <a:srgbClr val="0033cc"/>
                </a:solidFill>
                <a:latin typeface="Calibri"/>
              </a:rPr>
              <a:t>К ПРОВЕДЕНИЮ КОНСУЛЬТИРОВАНИЯ</a:t>
            </a:r>
            <a:endParaRPr b="0" i="1" lang="en-US" sz="24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0" y="980640"/>
            <a:ext cx="903600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ОГЛАСНО пункту 26 Правил регистрации и экспертизы лекарственных средств для медицинского применения, утвержденных Решением Совета Евразийской экономической комиссии от 3 ноября 2016 г. №78 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539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26. До подачи заявления на регистрацию лекарственного препарата уполномоченные органы или экспертные организации государств-членов вправе по запросу заявителя проводить научные и предрегистрационные консультации </a:t>
            </a: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в соответствии с законодательством государств-членов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, по вопросам, связанным с проведением аналитических испытаний, доклинических и клинических исследований (испытаний), аспектам процедуры регистрации, в том числе по вопросам, касающимся квалификации, разновидности заявления на регистрацию лекарственного препарата с целью определения объема документов и данных регистрационного досье, в отношении комплектности регистрационного досье, определения </a:t>
            </a: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аффилированных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 лиц в государствах признания, формата подачи заявления и регистрационного досье, необходимости предоставления образцов лекарственного препарата, стандартных образцов, материалов, специфических реактивов, расходных материалов, необходимых для проведения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лабораторной экспертизы качества в экспертной организации или по ее назначению, и по другим вопросам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529" name="Группа 5"/>
          <p:cNvGrpSpPr/>
          <p:nvPr/>
        </p:nvGrpSpPr>
        <p:grpSpPr>
          <a:xfrm>
            <a:off x="324000" y="1109520"/>
            <a:ext cx="125280" cy="595440"/>
            <a:chOff x="324000" y="1109520"/>
            <a:chExt cx="125280" cy="595440"/>
          </a:xfrm>
        </p:grpSpPr>
        <p:sp>
          <p:nvSpPr>
            <p:cNvPr id="530" name="Блок-схема: узел 2"/>
            <p:cNvSpPr/>
            <p:nvPr/>
          </p:nvSpPr>
          <p:spPr>
            <a:xfrm>
              <a:off x="344520" y="1555920"/>
              <a:ext cx="84240" cy="149040"/>
            </a:xfrm>
            <a:prstGeom prst="flowChartConnector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Овал 4"/>
            <p:cNvSpPr/>
            <p:nvPr/>
          </p:nvSpPr>
          <p:spPr>
            <a:xfrm>
              <a:off x="324000" y="1109520"/>
              <a:ext cx="125280" cy="4096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1440" y="1197000"/>
            <a:ext cx="9034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Национальные правила аудиторской деятельности «Допущение о непрерывности деятельности аудируемого лица», утвержденные постановлением Министерства финансов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Республики Беларусь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 от 28.03.2003 № 45, в качестве аффилированных лиц определяют юридические и (или) физические лица, способные оказывать влияние на финансово-хозяйственную деятельность других юридических и (или) физических лиц (пункт 4 Правил аудита)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179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Федеральный закон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Российской Федерации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 от 18.07.2009 № 190-ФЗ «О кредитной кооперации» в подпункте 20 пункта 3 статьи 1 устанавливает, что аффилированными лицами являются физические и (или) юридические лица, способные оказывать влияние на деятельность физических и (или) юридических лиц и признаваемые таковыми в соответствии с антимонопольным законодательством Российской Федерации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179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Законодательством, о котором идет речь в указанном выше законе, является Закон РСФСР от 22.03.1991 № 948-1 «О конкуренции и ограничении монополистической деятельности на товарных рынках», статья 4 которого определяет в качестве аффилированных лиц  физические и юридические лица, способные оказывать влияние на деятельность юридических и (или) физических лиц, осуществляющих предпринимательскую деятельность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20" y="115920"/>
            <a:ext cx="9134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Calibri"/>
              </a:rPr>
              <a:t>РАЗРАБОТКА ЕДИНЫХ МЕЖГОСУДАРСТВЕННЫХ ПОДХОДОВ </a:t>
            </a:r>
            <a:br>
              <a:rPr sz="2400"/>
            </a:br>
            <a:r>
              <a:rPr b="0" i="1" lang="ru-RU" sz="2400" spc="-1" strike="noStrike">
                <a:solidFill>
                  <a:srgbClr val="0033cc"/>
                </a:solidFill>
                <a:latin typeface="Calibri"/>
              </a:rPr>
              <a:t>К ПРОВЕДЕНИЮ КОНСУЛЬТИРОВАНИЯ</a:t>
            </a:r>
            <a:endParaRPr b="0" i="1" lang="en-US" sz="2400" spc="-1" strike="noStrike">
              <a:solidFill>
                <a:srgbClr val="0033c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1440" y="981000"/>
            <a:ext cx="90345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Правила регистрации и экспертизы лекарственных средств для медицинского применения, утвержденные Решением Совета Евразийской экономической комиссии от 3 ноября 2016 г. № 78 (пункт 19)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175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заявитель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 — юридическое лицо,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правомочное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 подавать заявление на регистрацию, подтверждение регистрации (перерегистрацию), внесение изменений в регистрационное досье лекарственных препаратов, иные процедуры, связанные с регистрацией, и несущее ответственность за достоверность информации, содержащейся в представленных им документах и данных регистрационного досье;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175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держатель регистрационного удостоверения</a:t>
            </a:r>
            <a:r>
              <a:rPr b="0" lang="ru-RU" sz="1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— юридическое лицо,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а имя которого выдано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 регистрационное удостоверение на лекарственный препарат и которое несет ответственность за безопасность, эффективность и качество лекарственного препарата;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175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представитель держателя регистрационного удостоверения</a:t>
            </a: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— юридическое лицо, зарегистрированное в соответствии с законодательством государства-члена, или обособленное подразделение юридического лица, расположенные на территории государства-члена и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уполномоченное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 держателем регистрационного удостоверения на выполнение действий, связанных с обращением лекарственных средств на территории государства-члена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17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920" y="0"/>
            <a:ext cx="9134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Calibri"/>
              </a:rPr>
              <a:t>РАЗРАБОТКА ЕДИНЫХ МЕЖГОСУДАРСТВЕННЫХ ПОДХОДОВ К СПОСОБАМ ПОДТВЕРЖДЕНИЯ ПОЛНОМОЧИЙ СУБЪЕКТОВ ОБРАЩЕНИЯ ЛЕКАРСТВЕННЫХ СРЕДСТВ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36" name="Ромб 5"/>
          <p:cNvSpPr/>
          <p:nvPr/>
        </p:nvSpPr>
        <p:spPr>
          <a:xfrm>
            <a:off x="254160" y="1989000"/>
            <a:ext cx="214200" cy="21456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Ромб 6"/>
          <p:cNvSpPr/>
          <p:nvPr/>
        </p:nvSpPr>
        <p:spPr>
          <a:xfrm>
            <a:off x="254160" y="3429000"/>
            <a:ext cx="214200" cy="2142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Ромб 7"/>
          <p:cNvSpPr/>
          <p:nvPr/>
        </p:nvSpPr>
        <p:spPr>
          <a:xfrm>
            <a:off x="254160" y="4581360"/>
            <a:ext cx="214200" cy="21456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1440" y="1197000"/>
            <a:ext cx="89632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64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Законом Республики Беларусь от 20 июля 2006 г. № 161-З «О лекарственных средствах» допускается участие в качестве заявителя на регистрацию лекарственных средств юридических лиц или индивидуальных предпринимателей (как белорусских, так и зарубежных), в том случае, если они не являются производителями, при выполнении условий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164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920" y="0"/>
            <a:ext cx="9134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Calibri"/>
              </a:rPr>
              <a:t>ПРИ РАЗРАБОТКЕ УКАЗАННЫХ ПОДХОДОВ ПРЕДЛАГАЕТСЯ ИСПОЛЬЗОВАТЬ </a:t>
            </a:r>
            <a:br>
              <a:rPr sz="2000"/>
            </a:br>
            <a:r>
              <a:rPr b="0" i="1" lang="ru-RU" sz="2000" spc="-1" strike="noStrike">
                <a:solidFill>
                  <a:srgbClr val="0033cc"/>
                </a:solidFill>
                <a:latin typeface="Calibri"/>
              </a:rPr>
              <a:t>ОПЫТ РЕСПУБЛИКИ БЕЛАРУСЬ</a:t>
            </a:r>
            <a:endParaRPr b="0" i="1" lang="en-US" sz="20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41" name="Стрелка вправо 5"/>
          <p:cNvSpPr/>
          <p:nvPr/>
        </p:nvSpPr>
        <p:spPr>
          <a:xfrm>
            <a:off x="-1908000" y="2133720"/>
            <a:ext cx="304560" cy="71280"/>
          </a:xfrm>
          <a:prstGeom prst="rightArrow">
            <a:avLst>
              <a:gd name="adj1" fmla="val 50000"/>
              <a:gd name="adj2" fmla="val 500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Схема 8" descr=""/>
          <p:cNvPicPr/>
          <p:nvPr/>
        </p:nvPicPr>
        <p:blipFill>
          <a:blip r:embed="rId1"/>
          <a:stretch/>
        </p:blipFill>
        <p:spPr>
          <a:xfrm>
            <a:off x="311040" y="2610000"/>
            <a:ext cx="8595000" cy="1773000"/>
          </a:xfrm>
          <a:prstGeom prst="rect">
            <a:avLst/>
          </a:prstGeom>
          <a:ln w="0">
            <a:noFill/>
          </a:ln>
        </p:spPr>
      </p:pic>
      <p:sp>
        <p:nvSpPr>
          <p:cNvPr id="543" name="Объект 2"/>
          <p:cNvSpPr/>
          <p:nvPr/>
        </p:nvSpPr>
        <p:spPr>
          <a:xfrm>
            <a:off x="0" y="4437000"/>
            <a:ext cx="89629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Опыт правового консультирования РУП «Центр экспертиз и испытаний в здравоохранении» показывает, что вопросы, касающиеся документального подтверждения права быть заявителем на регистрацию лекарственных средств и медицинских изделий, возникают довольно часто — в 2015 году таких вопросов было письменно зафиксировано 15 % от общего числа, в 2016 — 22 % от общего чис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1440" y="1197000"/>
            <a:ext cx="91425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Согласно пункту 1 статьи 15 Закона Республики Беларусь «О рекламе»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Реклама лекарственных средств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допускается только при наличии у рекламодателя согласования Министерства здравоохранения Республики Беларусь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. Данное требование не распространяется на рекламу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потребителями которой являются исключительно медицинские или фармацевтические работники и которая размещается (распространяется) в местах проведения медицинских или фармацевтических выставок, семинаров, конференций и иных подобных мероприятий;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лекарственных средств, размещение (распространение) которой осуществляется в специализированных печатных изданиях, перечень которых утверждается Министерством здравоохранения Республики Беларусь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920" y="0"/>
            <a:ext cx="9134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Calibri"/>
              </a:rPr>
              <a:t>РАЗРАБОТКА ЕДИНЫХ МЕЖГОСУДАРСТВЕННЫХ ПОДХОДОВ </a:t>
            </a:r>
            <a:br>
              <a:rPr sz="2000"/>
            </a:br>
            <a:r>
              <a:rPr b="0" i="1" lang="ru-RU" sz="2000" spc="-1" strike="noStrike">
                <a:solidFill>
                  <a:srgbClr val="0033cc"/>
                </a:solidFill>
                <a:latin typeface="Calibri"/>
              </a:rPr>
              <a:t>К РЕКЛАМИРОВАНИЮ ЛЕКАРСТВЕННЫХ СРЕДСТВ</a:t>
            </a:r>
            <a:endParaRPr b="0" i="1" lang="en-US" sz="20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46" name="Ромб 4"/>
          <p:cNvSpPr/>
          <p:nvPr/>
        </p:nvSpPr>
        <p:spPr>
          <a:xfrm>
            <a:off x="311040" y="2997360"/>
            <a:ext cx="214560" cy="2142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Ромб 5"/>
          <p:cNvSpPr/>
          <p:nvPr/>
        </p:nvSpPr>
        <p:spPr>
          <a:xfrm>
            <a:off x="311040" y="4167360"/>
            <a:ext cx="214560" cy="2142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440" y="1197000"/>
            <a:ext cx="8963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В Соглашении о единых принципах и правилах обращения лекарственных средств в рамках Евразийского экономического союза отсутствуют предписания данной проблематики, однако проблема имеет высокий уровень актуальности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Целесообразно рассмотреть вопрос об изучении применительно к обращению лекарственных средств в ЕАЭС перспектив практического применения статьи 10 Соглашения о единых принципах и правилах обращения медицинских изделий (изделий медицинского назначения и медицинской техники) в рамках Евразийского экономического союза. Указанной статьей предусматривается принятие необходимых мер по защите полученной и передаваемой уполномоченными органами конфиденциальной информации. 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920" y="0"/>
            <a:ext cx="9134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Calibri"/>
              </a:rPr>
              <a:t>РАЗРАБОТКА ЕДИНЫХ МЕЖГОСУДАРСТВЕННЫХ ПОДХОДОВ </a:t>
            </a:r>
            <a:br>
              <a:rPr sz="1800"/>
            </a:br>
            <a:r>
              <a:rPr b="0" i="1" lang="ru-RU" sz="1800" spc="-1" strike="noStrike">
                <a:solidFill>
                  <a:srgbClr val="0033cc"/>
                </a:solidFill>
                <a:latin typeface="Calibri"/>
              </a:rPr>
              <a:t>К ЗАЩИТЕ КОНФИДЕНЦИАЛЬНОЙ ИНФОРМАЦИИ </a:t>
            </a:r>
            <a:br>
              <a:rPr sz="1800"/>
            </a:br>
            <a:r>
              <a:rPr b="0" i="1" lang="ru-RU" sz="1800" spc="-1" strike="noStrike">
                <a:solidFill>
                  <a:srgbClr val="0033cc"/>
                </a:solidFill>
                <a:latin typeface="Calibri"/>
              </a:rPr>
              <a:t>ПРИ ОБРАЩЕНИИ ЛЕКАРСТВЕННЫХ СРЕДСТВ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1440" y="1196640"/>
            <a:ext cx="91425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Согласно статье 10 Соглашения о единых принципах и правилах обращения медицинских изделий (изделий медицинского назначения и медицинской техники) в рамках Евразийского экономического союза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920" y="0"/>
            <a:ext cx="9134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Calibri"/>
              </a:rPr>
              <a:t>РАЗРАБОТКА ЕДИНЫХ МЕЖГОСУДАРСТВЕННЫХ ПОДХОДОВ </a:t>
            </a:r>
            <a:br>
              <a:rPr sz="1800"/>
            </a:br>
            <a:r>
              <a:rPr b="0" i="1" lang="ru-RU" sz="1800" spc="-1" strike="noStrike">
                <a:solidFill>
                  <a:srgbClr val="0033cc"/>
                </a:solidFill>
                <a:latin typeface="Calibri"/>
              </a:rPr>
              <a:t>К ЗАЩИТЕ КОНФИДЕНЦИАЛЬНОЙ ИНФОРМАЦИИ </a:t>
            </a:r>
            <a:br>
              <a:rPr sz="1800"/>
            </a:br>
            <a:r>
              <a:rPr b="0" i="1" lang="ru-RU" sz="1800" spc="-1" strike="noStrike">
                <a:solidFill>
                  <a:srgbClr val="0033cc"/>
                </a:solidFill>
                <a:latin typeface="Calibri"/>
              </a:rPr>
              <a:t>ПРИ ОБРАЩЕНИИ ЛЕКАРСТВЕННЫХ СРЕДСТВ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52" name="Объект 2"/>
          <p:cNvSpPr/>
          <p:nvPr/>
        </p:nvSpPr>
        <p:spPr>
          <a:xfrm>
            <a:off x="696960" y="2146320"/>
            <a:ext cx="82375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Уполномоченные органы и Комиссия принимают необходимые меры по защите полученной и передаваемой ими в рамках настоящего Соглашения конфиденциальной информации, включая персональные дан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Объект 2"/>
          <p:cNvSpPr/>
          <p:nvPr/>
        </p:nvSpPr>
        <p:spPr>
          <a:xfrm>
            <a:off x="696960" y="3213000"/>
            <a:ext cx="8271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Для передачи третьим лицам конфиденциальной информации, полученной уполномоченным органом и (или) Комиссией в соответствии с настоящим Соглашением, требуется предварительное согласие лица, предоставившего эту информ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Объект 2"/>
          <p:cNvSpPr/>
          <p:nvPr/>
        </p:nvSpPr>
        <p:spPr>
          <a:xfrm>
            <a:off x="696960" y="4437000"/>
            <a:ext cx="8182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К конфиденциальной информации не могут быть отнесены информация и сведения, содержащиеся в регистрационном удостоверении медицинского издел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Прямоугольник 9" descr=""/>
          <p:cNvPicPr/>
          <p:nvPr/>
        </p:nvPicPr>
        <p:blipFill>
          <a:blip r:embed="rId1"/>
          <a:stretch/>
        </p:blipFill>
        <p:spPr>
          <a:xfrm>
            <a:off x="-133200" y="1938240"/>
            <a:ext cx="1292040" cy="1530360"/>
          </a:xfrm>
          <a:prstGeom prst="rect">
            <a:avLst/>
          </a:prstGeom>
          <a:ln w="0">
            <a:noFill/>
          </a:ln>
        </p:spPr>
      </p:pic>
      <p:pic>
        <p:nvPicPr>
          <p:cNvPr id="556" name="Прямоугольник 10" descr=""/>
          <p:cNvPicPr/>
          <p:nvPr/>
        </p:nvPicPr>
        <p:blipFill>
          <a:blip r:embed="rId2"/>
          <a:stretch/>
        </p:blipFill>
        <p:spPr>
          <a:xfrm>
            <a:off x="-133200" y="3090960"/>
            <a:ext cx="1292040" cy="1530360"/>
          </a:xfrm>
          <a:prstGeom prst="rect">
            <a:avLst/>
          </a:prstGeom>
          <a:ln w="0">
            <a:noFill/>
          </a:ln>
        </p:spPr>
      </p:pic>
      <p:pic>
        <p:nvPicPr>
          <p:cNvPr id="557" name="Прямоугольник 11" descr=""/>
          <p:cNvPicPr/>
          <p:nvPr/>
        </p:nvPicPr>
        <p:blipFill>
          <a:blip r:embed="rId3"/>
          <a:stretch/>
        </p:blipFill>
        <p:spPr>
          <a:xfrm>
            <a:off x="-133200" y="4230720"/>
            <a:ext cx="12920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1440" y="1197000"/>
            <a:ext cx="91425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Необходимость разработки единых наднациональных подходов в области охраны интеллектуальной собственности при обращении лекарственных средств в ЕАЭС была отмечена на Республиканском обучающем семинаре «Вопросы охраны и защиты интеллектуальной собственности в условиях единого фармацевтического рынка ЕАЭС», проходившем 30 июня 2016 г. в г. Минске (организатор семинара – Министерство здравоохранения Республики Беларусь и Ассоциация международных фармацевтических производителей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Существует необходимость установления единых требований к процессу правового регулирования контроля качества лекарственных средств в ЕАЭС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0T10:57:46Z</dcterms:created>
  <dc:creator>Нитиевская</dc:creator>
  <dc:description/>
  <dc:language>en-US</dc:language>
  <cp:lastModifiedBy>user</cp:lastModifiedBy>
  <dcterms:modified xsi:type="dcterms:W3CDTF">2017-05-15T13:23:15Z</dcterms:modified>
  <cp:revision>13</cp:revision>
  <dc:subject/>
  <dc:title>ПЕРСПЕКТИВНЫЕ НАПРАВЛЕНИЯ РАЗРАБОТКИ ЕДИНЫХ МЕЖГОСУДАРСТВЕННЫХ ПОДХОДОВ РЕГУЛИРОВАНИЯ РЫНКА ЛЕКАРСТВ В ЕАЭС</dc:title>
</cp:coreProperties>
</file>